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488-DC6F-43BD-833C-C146B600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ECD-32FA-48A6-A9B6-42645257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BD7-AA5A-4FB9-A7FE-2AD71D4A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D44-1847-4A84-8120-0B65A1B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B05-63A7-44B3-851C-E71EB47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6F0-883F-4610-AEC8-5A37C8F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8E0-247F-49B0-954A-1246198A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16C-4083-482A-99C9-2C5ECAE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5F0-E301-4287-BAB4-7803C06A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946-D866-4729-9785-98154DF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039-6009-4506-BCCC-E150263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FA7-F135-4F57-B245-2D9F870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D80E-39DF-4857-BF03-AFD64FE6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90920"/>
            <a:ext cx="175284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05320" y="3008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384120"/>
            <a:ext cx="1812960" cy="581040"/>
          </a:xfrm>
          <a:custGeom>
            <a:avLst/>
            <a:gdLst/>
            <a:ahLst/>
            <a:rect l="l" t="t" r="r" b="b"/>
            <a:pathLst>
              <a:path w="5036" h="1613">
                <a:moveTo>
                  <a:pt x="1364" y="1662"/>
                </a:moveTo>
                <a:cubicBezTo>
                  <a:pt x="1364" y="1997"/>
                  <a:pt x="1401" y="2351"/>
                  <a:pt x="1315" y="2679"/>
                </a:cubicBezTo>
                <a:cubicBezTo>
                  <a:pt x="1315" y="2629"/>
                  <a:pt x="1315" y="2613"/>
                  <a:pt x="1315" y="2580"/>
                </a:cubicBezTo>
                <a:cubicBezTo>
                  <a:pt x="1360" y="2205"/>
                  <a:pt x="1356" y="1693"/>
                  <a:pt x="1563" y="1364"/>
                </a:cubicBezTo>
                <a:cubicBezTo>
                  <a:pt x="1596" y="1339"/>
                  <a:pt x="1629" y="1315"/>
                  <a:pt x="1662" y="1290"/>
                </a:cubicBezTo>
                <a:cubicBezTo>
                  <a:pt x="1908" y="1582"/>
                  <a:pt x="1956" y="1966"/>
                  <a:pt x="1960" y="2356"/>
                </a:cubicBezTo>
                <a:cubicBezTo>
                  <a:pt x="1939" y="2522"/>
                  <a:pt x="1939" y="2557"/>
                  <a:pt x="1910" y="2654"/>
                </a:cubicBezTo>
              </a:path>
              <a:path w="5036" h="1613">
                <a:moveTo>
                  <a:pt x="1290" y="2232"/>
                </a:moveTo>
                <a:cubicBezTo>
                  <a:pt x="1533" y="2200"/>
                  <a:pt x="1767" y="2126"/>
                  <a:pt x="2009" y="2084"/>
                </a:cubicBezTo>
              </a:path>
              <a:path w="5036" h="1613">
                <a:moveTo>
                  <a:pt x="2356" y="1910"/>
                </a:moveTo>
                <a:cubicBezTo>
                  <a:pt x="2516" y="1882"/>
                  <a:pt x="2666" y="1866"/>
                  <a:pt x="2828" y="1860"/>
                </a:cubicBezTo>
              </a:path>
              <a:path w="5036" h="1613">
                <a:moveTo>
                  <a:pt x="2480" y="2208"/>
                </a:moveTo>
                <a:cubicBezTo>
                  <a:pt x="2655" y="2179"/>
                  <a:pt x="2730" y="2165"/>
                  <a:pt x="2853" y="2133"/>
                </a:cubicBezTo>
              </a:path>
              <a:path w="5036" h="1613">
                <a:moveTo>
                  <a:pt x="3795" y="1885"/>
                </a:moveTo>
                <a:cubicBezTo>
                  <a:pt x="3781" y="2087"/>
                  <a:pt x="3770" y="2278"/>
                  <a:pt x="3770" y="2480"/>
                </a:cubicBezTo>
              </a:path>
              <a:path w="5036" h="1613">
                <a:moveTo>
                  <a:pt x="4167" y="1588"/>
                </a:moveTo>
                <a:cubicBezTo>
                  <a:pt x="4175" y="1886"/>
                  <a:pt x="4206" y="2182"/>
                  <a:pt x="4217" y="2480"/>
                </a:cubicBezTo>
              </a:path>
              <a:path w="5036" h="1613">
                <a:moveTo>
                  <a:pt x="3274" y="1910"/>
                </a:moveTo>
                <a:cubicBezTo>
                  <a:pt x="3367" y="1752"/>
                  <a:pt x="3438" y="1651"/>
                  <a:pt x="3597" y="1563"/>
                </a:cubicBezTo>
                <a:cubicBezTo>
                  <a:pt x="3777" y="1463"/>
                  <a:pt x="3826" y="1637"/>
                  <a:pt x="3994" y="1712"/>
                </a:cubicBezTo>
                <a:cubicBezTo>
                  <a:pt x="4268" y="1835"/>
                  <a:pt x="4741" y="1754"/>
                  <a:pt x="4564" y="1339"/>
                </a:cubicBezTo>
                <a:cubicBezTo>
                  <a:pt x="4436" y="1236"/>
                  <a:pt x="4389" y="1204"/>
                  <a:pt x="4266" y="1265"/>
                </a:cubicBezTo>
              </a:path>
              <a:path w="5036" h="1613">
                <a:moveTo>
                  <a:pt x="5110" y="1960"/>
                </a:moveTo>
                <a:cubicBezTo>
                  <a:pt x="5136" y="2109"/>
                  <a:pt x="5158" y="2257"/>
                  <a:pt x="5184" y="2406"/>
                </a:cubicBezTo>
                <a:cubicBezTo>
                  <a:pt x="5129" y="2231"/>
                  <a:pt x="5032" y="2037"/>
                  <a:pt x="5184" y="1885"/>
                </a:cubicBezTo>
                <a:cubicBezTo>
                  <a:pt x="5327" y="1742"/>
                  <a:pt x="5455" y="1770"/>
                  <a:pt x="5631" y="1786"/>
                </a:cubicBezTo>
              </a:path>
              <a:path w="5036" h="1613">
                <a:moveTo>
                  <a:pt x="5804" y="1166"/>
                </a:moveTo>
                <a:cubicBezTo>
                  <a:pt x="5884" y="1086"/>
                  <a:pt x="5915" y="1060"/>
                  <a:pt x="6003" y="1067"/>
                </a:cubicBezTo>
                <a:cubicBezTo>
                  <a:pt x="6167" y="1231"/>
                  <a:pt x="6267" y="1374"/>
                  <a:pt x="6028" y="1538"/>
                </a:cubicBezTo>
                <a:cubicBezTo>
                  <a:pt x="5921" y="1581"/>
                  <a:pt x="5897" y="1604"/>
                  <a:pt x="5829" y="1563"/>
                </a:cubicBezTo>
                <a:cubicBezTo>
                  <a:pt x="5866" y="1374"/>
                  <a:pt x="5998" y="1517"/>
                  <a:pt x="6176" y="1513"/>
                </a:cubicBezTo>
                <a:cubicBezTo>
                  <a:pt x="6226" y="1505"/>
                  <a:pt x="6275" y="1496"/>
                  <a:pt x="6325" y="14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340000"/>
            <a:ext cx="1955520" cy="598320"/>
          </a:xfrm>
          <a:custGeom>
            <a:avLst/>
            <a:gdLst/>
            <a:ahLst/>
            <a:rect l="l" t="t" r="r" b="b"/>
            <a:pathLst>
              <a:path w="5433" h="1663">
                <a:moveTo>
                  <a:pt x="1712" y="7367"/>
                </a:moveTo>
                <a:cubicBezTo>
                  <a:pt x="1700" y="7639"/>
                  <a:pt x="1676" y="7898"/>
                  <a:pt x="1612" y="8161"/>
                </a:cubicBezTo>
                <a:cubicBezTo>
                  <a:pt x="1593" y="7740"/>
                  <a:pt x="1621" y="7466"/>
                  <a:pt x="1836" y="7094"/>
                </a:cubicBezTo>
                <a:cubicBezTo>
                  <a:pt x="1961" y="6905"/>
                  <a:pt x="1976" y="6852"/>
                  <a:pt x="2108" y="6796"/>
                </a:cubicBezTo>
                <a:cubicBezTo>
                  <a:pt x="2349" y="7067"/>
                  <a:pt x="2366" y="7305"/>
                  <a:pt x="2307" y="7665"/>
                </a:cubicBezTo>
                <a:cubicBezTo>
                  <a:pt x="2265" y="7830"/>
                  <a:pt x="2257" y="7863"/>
                  <a:pt x="2232" y="7962"/>
                </a:cubicBezTo>
              </a:path>
              <a:path w="5433" h="1663">
                <a:moveTo>
                  <a:pt x="1662" y="7739"/>
                </a:moveTo>
                <a:cubicBezTo>
                  <a:pt x="1852" y="7659"/>
                  <a:pt x="2051" y="7596"/>
                  <a:pt x="2257" y="7565"/>
                </a:cubicBezTo>
                <a:cubicBezTo>
                  <a:pt x="2274" y="7565"/>
                  <a:pt x="2290" y="7565"/>
                  <a:pt x="2307" y="7565"/>
                </a:cubicBezTo>
              </a:path>
              <a:path w="5433" h="1663">
                <a:moveTo>
                  <a:pt x="2704" y="7392"/>
                </a:moveTo>
                <a:cubicBezTo>
                  <a:pt x="2825" y="7354"/>
                  <a:pt x="2952" y="7327"/>
                  <a:pt x="3076" y="7293"/>
                </a:cubicBezTo>
              </a:path>
              <a:path w="5433" h="1663">
                <a:moveTo>
                  <a:pt x="2729" y="7640"/>
                </a:moveTo>
                <a:cubicBezTo>
                  <a:pt x="2929" y="7595"/>
                  <a:pt x="2980" y="7586"/>
                  <a:pt x="3101" y="7541"/>
                </a:cubicBezTo>
              </a:path>
              <a:path w="5433" h="1663">
                <a:moveTo>
                  <a:pt x="3423" y="6945"/>
                </a:moveTo>
                <a:cubicBezTo>
                  <a:pt x="3476" y="7187"/>
                  <a:pt x="3443" y="6912"/>
                  <a:pt x="3646" y="6821"/>
                </a:cubicBezTo>
                <a:cubicBezTo>
                  <a:pt x="3679" y="6821"/>
                  <a:pt x="3713" y="6821"/>
                  <a:pt x="3746" y="6821"/>
                </a:cubicBezTo>
                <a:cubicBezTo>
                  <a:pt x="3745" y="7123"/>
                  <a:pt x="3667" y="7183"/>
                  <a:pt x="3398" y="7317"/>
                </a:cubicBezTo>
                <a:cubicBezTo>
                  <a:pt x="3542" y="7234"/>
                  <a:pt x="3817" y="7223"/>
                  <a:pt x="3696" y="7491"/>
                </a:cubicBezTo>
                <a:cubicBezTo>
                  <a:pt x="3591" y="7722"/>
                  <a:pt x="3240" y="7967"/>
                  <a:pt x="3076" y="7838"/>
                </a:cubicBezTo>
                <a:cubicBezTo>
                  <a:pt x="3212" y="7701"/>
                  <a:pt x="3267" y="7677"/>
                  <a:pt x="3423" y="7813"/>
                </a:cubicBezTo>
                <a:cubicBezTo>
                  <a:pt x="3440" y="7830"/>
                  <a:pt x="3456" y="7846"/>
                  <a:pt x="3473" y="7863"/>
                </a:cubicBezTo>
              </a:path>
              <a:path w="5433" h="1663">
                <a:moveTo>
                  <a:pt x="3894" y="7615"/>
                </a:moveTo>
                <a:cubicBezTo>
                  <a:pt x="3872" y="7682"/>
                  <a:pt x="3861" y="7713"/>
                  <a:pt x="3894" y="7640"/>
                </a:cubicBezTo>
              </a:path>
              <a:path w="5433" h="1663">
                <a:moveTo>
                  <a:pt x="4316" y="6970"/>
                </a:moveTo>
                <a:cubicBezTo>
                  <a:pt x="4308" y="7245"/>
                  <a:pt x="4273" y="7495"/>
                  <a:pt x="4217" y="7764"/>
                </a:cubicBezTo>
              </a:path>
              <a:path w="5433" h="1663">
                <a:moveTo>
                  <a:pt x="4762" y="6995"/>
                </a:moveTo>
                <a:cubicBezTo>
                  <a:pt x="4713" y="7139"/>
                  <a:pt x="4703" y="7198"/>
                  <a:pt x="4614" y="7317"/>
                </a:cubicBezTo>
                <a:cubicBezTo>
                  <a:pt x="4731" y="7337"/>
                  <a:pt x="4839" y="7342"/>
                  <a:pt x="4961" y="7342"/>
                </a:cubicBezTo>
                <a:cubicBezTo>
                  <a:pt x="4994" y="7342"/>
                  <a:pt x="5027" y="7342"/>
                  <a:pt x="5060" y="7342"/>
                </a:cubicBezTo>
              </a:path>
              <a:path w="5433" h="1663">
                <a:moveTo>
                  <a:pt x="5035" y="6672"/>
                </a:moveTo>
                <a:cubicBezTo>
                  <a:pt x="5015" y="7010"/>
                  <a:pt x="4931" y="7330"/>
                  <a:pt x="4887" y="7665"/>
                </a:cubicBezTo>
                <a:cubicBezTo>
                  <a:pt x="4887" y="7698"/>
                  <a:pt x="4887" y="7731"/>
                  <a:pt x="4887" y="7764"/>
                </a:cubicBezTo>
              </a:path>
              <a:path w="5433" h="1663">
                <a:moveTo>
                  <a:pt x="5755" y="6548"/>
                </a:moveTo>
                <a:cubicBezTo>
                  <a:pt x="5571" y="6851"/>
                  <a:pt x="5367" y="7214"/>
                  <a:pt x="5407" y="7590"/>
                </a:cubicBezTo>
                <a:cubicBezTo>
                  <a:pt x="5473" y="7766"/>
                  <a:pt x="5481" y="7816"/>
                  <a:pt x="5581" y="7888"/>
                </a:cubicBezTo>
              </a:path>
              <a:path w="5433" h="1663">
                <a:moveTo>
                  <a:pt x="6722" y="6524"/>
                </a:moveTo>
                <a:cubicBezTo>
                  <a:pt x="6873" y="6675"/>
                  <a:pt x="7033" y="6807"/>
                  <a:pt x="7020" y="7045"/>
                </a:cubicBezTo>
                <a:cubicBezTo>
                  <a:pt x="7007" y="7273"/>
                  <a:pt x="6916" y="7478"/>
                  <a:pt x="6796" y="7665"/>
                </a:cubicBezTo>
              </a:path>
              <a:path w="5433" h="1663">
                <a:moveTo>
                  <a:pt x="6747" y="7491"/>
                </a:moveTo>
                <a:cubicBezTo>
                  <a:pt x="6829" y="7491"/>
                  <a:pt x="6848" y="7510"/>
                  <a:pt x="6796" y="7590"/>
                </a:cubicBezTo>
                <a:cubicBezTo>
                  <a:pt x="6731" y="7691"/>
                  <a:pt x="6657" y="7782"/>
                  <a:pt x="6598" y="7888"/>
                </a:cubicBezTo>
                <a:cubicBezTo>
                  <a:pt x="6687" y="7799"/>
                  <a:pt x="6765" y="7711"/>
                  <a:pt x="6846" y="7615"/>
                </a:cubicBezTo>
              </a:path>
              <a:path w="5433" h="1663">
                <a:moveTo>
                  <a:pt x="5904" y="7144"/>
                </a:moveTo>
                <a:cubicBezTo>
                  <a:pt x="5978" y="7099"/>
                  <a:pt x="6052" y="7033"/>
                  <a:pt x="6028" y="6921"/>
                </a:cubicBezTo>
                <a:cubicBezTo>
                  <a:pt x="6003" y="6801"/>
                  <a:pt x="5814" y="6783"/>
                  <a:pt x="5730" y="6846"/>
                </a:cubicBezTo>
                <a:cubicBezTo>
                  <a:pt x="5627" y="6924"/>
                  <a:pt x="5668" y="7128"/>
                  <a:pt x="5804" y="7144"/>
                </a:cubicBezTo>
                <a:cubicBezTo>
                  <a:pt x="5938" y="7159"/>
                  <a:pt x="6007" y="6987"/>
                  <a:pt x="6052" y="6896"/>
                </a:cubicBezTo>
                <a:cubicBezTo>
                  <a:pt x="6003" y="7110"/>
                  <a:pt x="5983" y="7321"/>
                  <a:pt x="5978" y="7541"/>
                </a:cubicBezTo>
                <a:cubicBezTo>
                  <a:pt x="5978" y="7615"/>
                  <a:pt x="5978" y="7624"/>
                  <a:pt x="5978" y="7665"/>
                </a:cubicBezTo>
              </a:path>
              <a:path w="5433" h="1663">
                <a:moveTo>
                  <a:pt x="6350" y="6598"/>
                </a:moveTo>
                <a:cubicBezTo>
                  <a:pt x="6394" y="6510"/>
                  <a:pt x="6399" y="6477"/>
                  <a:pt x="6474" y="6499"/>
                </a:cubicBezTo>
                <a:cubicBezTo>
                  <a:pt x="6550" y="6635"/>
                  <a:pt x="6536" y="6787"/>
                  <a:pt x="6350" y="6846"/>
                </a:cubicBezTo>
                <a:cubicBezTo>
                  <a:pt x="6251" y="6877"/>
                  <a:pt x="6203" y="6832"/>
                  <a:pt x="6152" y="6772"/>
                </a:cubicBezTo>
                <a:cubicBezTo>
                  <a:pt x="6235" y="6653"/>
                  <a:pt x="6272" y="6690"/>
                  <a:pt x="6400" y="6722"/>
                </a:cubicBezTo>
                <a:cubicBezTo>
                  <a:pt x="6566" y="6764"/>
                  <a:pt x="6681" y="6728"/>
                  <a:pt x="6796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6680" y="2178000"/>
            <a:ext cx="1358640" cy="474840"/>
          </a:xfrm>
          <a:custGeom>
            <a:avLst/>
            <a:gdLst/>
            <a:ahLst/>
            <a:rect l="l" t="t" r="r" b="b"/>
            <a:pathLst>
              <a:path w="3772" h="1316">
                <a:moveTo>
                  <a:pt x="8136" y="6796"/>
                </a:moveTo>
                <a:cubicBezTo>
                  <a:pt x="8240" y="6771"/>
                  <a:pt x="8170" y="6624"/>
                  <a:pt x="8111" y="6573"/>
                </a:cubicBezTo>
                <a:cubicBezTo>
                  <a:pt x="7926" y="6412"/>
                  <a:pt x="7732" y="6760"/>
                  <a:pt x="7714" y="6896"/>
                </a:cubicBezTo>
                <a:cubicBezTo>
                  <a:pt x="7722" y="6937"/>
                  <a:pt x="7731" y="6979"/>
                  <a:pt x="7739" y="7020"/>
                </a:cubicBezTo>
                <a:cubicBezTo>
                  <a:pt x="8004" y="7062"/>
                  <a:pt x="8133" y="7041"/>
                  <a:pt x="8210" y="6747"/>
                </a:cubicBezTo>
                <a:cubicBezTo>
                  <a:pt x="8230" y="6669"/>
                  <a:pt x="8210" y="6596"/>
                  <a:pt x="8210" y="6747"/>
                </a:cubicBezTo>
                <a:cubicBezTo>
                  <a:pt x="8210" y="6956"/>
                  <a:pt x="8186" y="7159"/>
                  <a:pt x="8186" y="7367"/>
                </a:cubicBezTo>
              </a:path>
              <a:path w="3772" h="1316">
                <a:moveTo>
                  <a:pt x="8508" y="6623"/>
                </a:moveTo>
                <a:cubicBezTo>
                  <a:pt x="8608" y="6778"/>
                  <a:pt x="8723" y="6919"/>
                  <a:pt x="8830" y="7069"/>
                </a:cubicBezTo>
              </a:path>
              <a:path w="3772" h="1316">
                <a:moveTo>
                  <a:pt x="8781" y="6573"/>
                </a:moveTo>
                <a:cubicBezTo>
                  <a:pt x="8716" y="6788"/>
                  <a:pt x="8639" y="7000"/>
                  <a:pt x="8582" y="7218"/>
                </a:cubicBezTo>
                <a:cubicBezTo>
                  <a:pt x="8582" y="7226"/>
                  <a:pt x="8582" y="7235"/>
                  <a:pt x="8582" y="7243"/>
                </a:cubicBezTo>
              </a:path>
              <a:path w="3772" h="1316">
                <a:moveTo>
                  <a:pt x="9426" y="6821"/>
                </a:moveTo>
                <a:cubicBezTo>
                  <a:pt x="9444" y="6699"/>
                  <a:pt x="9461" y="6541"/>
                  <a:pt x="9327" y="6474"/>
                </a:cubicBezTo>
                <a:cubicBezTo>
                  <a:pt x="9101" y="6361"/>
                  <a:pt x="9070" y="6717"/>
                  <a:pt x="9054" y="6846"/>
                </a:cubicBezTo>
                <a:cubicBezTo>
                  <a:pt x="9252" y="6902"/>
                  <a:pt x="9374" y="6895"/>
                  <a:pt x="9451" y="6672"/>
                </a:cubicBezTo>
                <a:cubicBezTo>
                  <a:pt x="9459" y="6631"/>
                  <a:pt x="9467" y="6589"/>
                  <a:pt x="9475" y="6548"/>
                </a:cubicBezTo>
                <a:cubicBezTo>
                  <a:pt x="9475" y="6788"/>
                  <a:pt x="9475" y="7028"/>
                  <a:pt x="9475" y="7268"/>
                </a:cubicBezTo>
              </a:path>
              <a:path w="3772" h="1316">
                <a:moveTo>
                  <a:pt x="9947" y="6722"/>
                </a:moveTo>
                <a:cubicBezTo>
                  <a:pt x="10041" y="6711"/>
                  <a:pt x="10128" y="6692"/>
                  <a:pt x="10220" y="6672"/>
                </a:cubicBezTo>
              </a:path>
              <a:path w="3772" h="1316">
                <a:moveTo>
                  <a:pt x="10021" y="6896"/>
                </a:moveTo>
                <a:cubicBezTo>
                  <a:pt x="10150" y="6877"/>
                  <a:pt x="10271" y="6862"/>
                  <a:pt x="10393" y="6821"/>
                </a:cubicBezTo>
              </a:path>
              <a:path w="3772" h="1316">
                <a:moveTo>
                  <a:pt x="11038" y="6375"/>
                </a:moveTo>
                <a:cubicBezTo>
                  <a:pt x="10792" y="6297"/>
                  <a:pt x="10694" y="6396"/>
                  <a:pt x="10517" y="6573"/>
                </a:cubicBezTo>
                <a:cubicBezTo>
                  <a:pt x="10732" y="6691"/>
                  <a:pt x="10975" y="6720"/>
                  <a:pt x="11137" y="6871"/>
                </a:cubicBezTo>
                <a:cubicBezTo>
                  <a:pt x="10972" y="6956"/>
                  <a:pt x="10568" y="7141"/>
                  <a:pt x="10740" y="6747"/>
                </a:cubicBezTo>
                <a:cubicBezTo>
                  <a:pt x="10841" y="6585"/>
                  <a:pt x="10871" y="6562"/>
                  <a:pt x="10889" y="6449"/>
                </a:cubicBezTo>
              </a:path>
              <a:path w="3772" h="1316">
                <a:moveTo>
                  <a:pt x="11286" y="6052"/>
                </a:moveTo>
                <a:cubicBezTo>
                  <a:pt x="11364" y="6267"/>
                  <a:pt x="11426" y="6478"/>
                  <a:pt x="11485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8120" y="3000240"/>
            <a:ext cx="1963800" cy="679680"/>
          </a:xfrm>
          <a:custGeom>
            <a:avLst/>
            <a:gdLst/>
            <a:ahLst/>
            <a:rect l="l" t="t" r="r" b="b"/>
            <a:pathLst>
              <a:path w="5458" h="1887">
                <a:moveTo>
                  <a:pt x="1414" y="9277"/>
                </a:moveTo>
                <a:cubicBezTo>
                  <a:pt x="1343" y="9536"/>
                  <a:pt x="1288" y="9803"/>
                  <a:pt x="1240" y="10071"/>
                </a:cubicBezTo>
                <a:cubicBezTo>
                  <a:pt x="1232" y="10121"/>
                  <a:pt x="1223" y="10170"/>
                  <a:pt x="1215" y="10220"/>
                </a:cubicBezTo>
                <a:cubicBezTo>
                  <a:pt x="1229" y="9798"/>
                  <a:pt x="1260" y="9386"/>
                  <a:pt x="1463" y="9004"/>
                </a:cubicBezTo>
                <a:cubicBezTo>
                  <a:pt x="1505" y="8954"/>
                  <a:pt x="1546" y="8905"/>
                  <a:pt x="1588" y="8855"/>
                </a:cubicBezTo>
                <a:cubicBezTo>
                  <a:pt x="1896" y="9086"/>
                  <a:pt x="1931" y="9410"/>
                  <a:pt x="1960" y="9798"/>
                </a:cubicBezTo>
                <a:cubicBezTo>
                  <a:pt x="1960" y="9956"/>
                  <a:pt x="1973" y="9985"/>
                  <a:pt x="1935" y="10071"/>
                </a:cubicBezTo>
              </a:path>
              <a:path w="5458" h="1887">
                <a:moveTo>
                  <a:pt x="1364" y="9575"/>
                </a:moveTo>
                <a:cubicBezTo>
                  <a:pt x="1597" y="9522"/>
                  <a:pt x="1824" y="9467"/>
                  <a:pt x="2059" y="9426"/>
                </a:cubicBezTo>
              </a:path>
              <a:path w="5458" h="1887">
                <a:moveTo>
                  <a:pt x="2431" y="9451"/>
                </a:moveTo>
                <a:cubicBezTo>
                  <a:pt x="2516" y="9408"/>
                  <a:pt x="2572" y="9394"/>
                  <a:pt x="2654" y="9401"/>
                </a:cubicBezTo>
              </a:path>
              <a:path w="5458" h="1887">
                <a:moveTo>
                  <a:pt x="2629" y="9723"/>
                </a:moveTo>
                <a:cubicBezTo>
                  <a:pt x="2695" y="9715"/>
                  <a:pt x="2762" y="9707"/>
                  <a:pt x="2828" y="9699"/>
                </a:cubicBezTo>
              </a:path>
              <a:path w="5458" h="1887">
                <a:moveTo>
                  <a:pt x="3001" y="9277"/>
                </a:moveTo>
                <a:cubicBezTo>
                  <a:pt x="3013" y="9198"/>
                  <a:pt x="3234" y="8984"/>
                  <a:pt x="3373" y="9079"/>
                </a:cubicBezTo>
                <a:cubicBezTo>
                  <a:pt x="3535" y="9190"/>
                  <a:pt x="3334" y="9410"/>
                  <a:pt x="3249" y="9475"/>
                </a:cubicBezTo>
                <a:cubicBezTo>
                  <a:pt x="3364" y="9413"/>
                  <a:pt x="3589" y="9390"/>
                  <a:pt x="3473" y="9624"/>
                </a:cubicBezTo>
                <a:cubicBezTo>
                  <a:pt x="3409" y="9753"/>
                  <a:pt x="3007" y="10077"/>
                  <a:pt x="2952" y="9798"/>
                </a:cubicBezTo>
                <a:cubicBezTo>
                  <a:pt x="2983" y="9735"/>
                  <a:pt x="3006" y="9718"/>
                  <a:pt x="3076" y="9748"/>
                </a:cubicBezTo>
              </a:path>
              <a:path w="5458" h="1887">
                <a:moveTo>
                  <a:pt x="3746" y="9500"/>
                </a:moveTo>
                <a:cubicBezTo>
                  <a:pt x="3762" y="9533"/>
                  <a:pt x="3779" y="9566"/>
                  <a:pt x="3795" y="9599"/>
                </a:cubicBezTo>
              </a:path>
              <a:path w="5458" h="1887">
                <a:moveTo>
                  <a:pt x="3994" y="9004"/>
                </a:moveTo>
                <a:cubicBezTo>
                  <a:pt x="4066" y="9214"/>
                  <a:pt x="4150" y="9412"/>
                  <a:pt x="4217" y="9624"/>
                </a:cubicBezTo>
              </a:path>
              <a:path w="5458" h="1887">
                <a:moveTo>
                  <a:pt x="4341" y="9029"/>
                </a:moveTo>
                <a:cubicBezTo>
                  <a:pt x="4348" y="9113"/>
                  <a:pt x="4359" y="9193"/>
                  <a:pt x="4366" y="9277"/>
                </a:cubicBezTo>
                <a:cubicBezTo>
                  <a:pt x="4510" y="9277"/>
                  <a:pt x="4625" y="9267"/>
                  <a:pt x="4762" y="9227"/>
                </a:cubicBezTo>
              </a:path>
              <a:path w="5458" h="1887">
                <a:moveTo>
                  <a:pt x="4564" y="8756"/>
                </a:moveTo>
                <a:cubicBezTo>
                  <a:pt x="4671" y="9020"/>
                  <a:pt x="4752" y="9272"/>
                  <a:pt x="4812" y="9550"/>
                </a:cubicBezTo>
              </a:path>
              <a:path w="5458" h="1887">
                <a:moveTo>
                  <a:pt x="5234" y="8409"/>
                </a:moveTo>
                <a:cubicBezTo>
                  <a:pt x="5112" y="8685"/>
                  <a:pt x="4970" y="8992"/>
                  <a:pt x="5060" y="9302"/>
                </a:cubicBezTo>
                <a:cubicBezTo>
                  <a:pt x="5120" y="9507"/>
                  <a:pt x="5240" y="9541"/>
                  <a:pt x="5407" y="9599"/>
                </a:cubicBezTo>
              </a:path>
              <a:path w="5458" h="1887">
                <a:moveTo>
                  <a:pt x="5755" y="8756"/>
                </a:moveTo>
                <a:cubicBezTo>
                  <a:pt x="5561" y="8713"/>
                  <a:pt x="5543" y="8747"/>
                  <a:pt x="5358" y="8855"/>
                </a:cubicBezTo>
                <a:cubicBezTo>
                  <a:pt x="5424" y="9063"/>
                  <a:pt x="5586" y="9101"/>
                  <a:pt x="5730" y="9277"/>
                </a:cubicBezTo>
                <a:cubicBezTo>
                  <a:pt x="5568" y="9342"/>
                  <a:pt x="5574" y="9160"/>
                  <a:pt x="5606" y="9004"/>
                </a:cubicBezTo>
                <a:cubicBezTo>
                  <a:pt x="5622" y="8954"/>
                  <a:pt x="5639" y="8905"/>
                  <a:pt x="5655" y="8855"/>
                </a:cubicBezTo>
              </a:path>
              <a:path w="5458" h="1887">
                <a:moveTo>
                  <a:pt x="5978" y="8607"/>
                </a:moveTo>
                <a:cubicBezTo>
                  <a:pt x="6018" y="8781"/>
                  <a:pt x="6059" y="8955"/>
                  <a:pt x="6102" y="9128"/>
                </a:cubicBezTo>
              </a:path>
              <a:path w="5458" h="1887">
                <a:moveTo>
                  <a:pt x="6176" y="8334"/>
                </a:moveTo>
                <a:cubicBezTo>
                  <a:pt x="6425" y="8514"/>
                  <a:pt x="6749" y="8693"/>
                  <a:pt x="6672" y="9054"/>
                </a:cubicBezTo>
                <a:cubicBezTo>
                  <a:pt x="6637" y="9219"/>
                  <a:pt x="6463" y="9322"/>
                  <a:pt x="635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040" y="3679920"/>
            <a:ext cx="2581200" cy="758880"/>
          </a:xfrm>
          <a:custGeom>
            <a:avLst/>
            <a:gdLst/>
            <a:ahLst/>
            <a:rect l="l" t="t" r="r" b="b"/>
            <a:pathLst>
              <a:path w="7169" h="2109">
                <a:moveTo>
                  <a:pt x="1612" y="11485"/>
                </a:moveTo>
                <a:cubicBezTo>
                  <a:pt x="1612" y="11769"/>
                  <a:pt x="1611" y="12046"/>
                  <a:pt x="1588" y="12328"/>
                </a:cubicBezTo>
                <a:cubicBezTo>
                  <a:pt x="1532" y="11942"/>
                  <a:pt x="1505" y="11604"/>
                  <a:pt x="1736" y="11261"/>
                </a:cubicBezTo>
                <a:cubicBezTo>
                  <a:pt x="1786" y="11220"/>
                  <a:pt x="1835" y="11178"/>
                  <a:pt x="1885" y="11137"/>
                </a:cubicBezTo>
                <a:cubicBezTo>
                  <a:pt x="2158" y="11310"/>
                  <a:pt x="2147" y="11570"/>
                  <a:pt x="2158" y="11906"/>
                </a:cubicBezTo>
                <a:cubicBezTo>
                  <a:pt x="2158" y="11947"/>
                  <a:pt x="2158" y="11989"/>
                  <a:pt x="2158" y="12030"/>
                </a:cubicBezTo>
              </a:path>
              <a:path w="7169" h="2109">
                <a:moveTo>
                  <a:pt x="1538" y="11906"/>
                </a:moveTo>
                <a:cubicBezTo>
                  <a:pt x="1711" y="11820"/>
                  <a:pt x="1883" y="11737"/>
                  <a:pt x="2059" y="11658"/>
                </a:cubicBezTo>
              </a:path>
              <a:path w="7169" h="2109">
                <a:moveTo>
                  <a:pt x="2332" y="11410"/>
                </a:moveTo>
                <a:cubicBezTo>
                  <a:pt x="2442" y="11355"/>
                  <a:pt x="2537" y="11310"/>
                  <a:pt x="2654" y="11286"/>
                </a:cubicBezTo>
              </a:path>
              <a:path w="7169" h="2109">
                <a:moveTo>
                  <a:pt x="2356" y="11757"/>
                </a:moveTo>
                <a:cubicBezTo>
                  <a:pt x="2472" y="11691"/>
                  <a:pt x="2587" y="11623"/>
                  <a:pt x="2704" y="11559"/>
                </a:cubicBezTo>
              </a:path>
              <a:path w="7169" h="2109">
                <a:moveTo>
                  <a:pt x="3324" y="11088"/>
                </a:moveTo>
                <a:cubicBezTo>
                  <a:pt x="3324" y="11013"/>
                  <a:pt x="3344" y="10982"/>
                  <a:pt x="3423" y="10964"/>
                </a:cubicBezTo>
                <a:cubicBezTo>
                  <a:pt x="3665" y="11178"/>
                  <a:pt x="3709" y="11531"/>
                  <a:pt x="3398" y="11782"/>
                </a:cubicBezTo>
                <a:cubicBezTo>
                  <a:pt x="3191" y="11864"/>
                  <a:pt x="3150" y="11914"/>
                  <a:pt x="3026" y="11832"/>
                </a:cubicBezTo>
                <a:cubicBezTo>
                  <a:pt x="3189" y="11603"/>
                  <a:pt x="3393" y="11361"/>
                  <a:pt x="3646" y="11658"/>
                </a:cubicBezTo>
                <a:cubicBezTo>
                  <a:pt x="3663" y="11699"/>
                  <a:pt x="3679" y="11741"/>
                  <a:pt x="3696" y="11782"/>
                </a:cubicBezTo>
              </a:path>
              <a:path w="7169" h="2109">
                <a:moveTo>
                  <a:pt x="3870" y="11063"/>
                </a:moveTo>
                <a:cubicBezTo>
                  <a:pt x="3844" y="11174"/>
                  <a:pt x="3827" y="11272"/>
                  <a:pt x="3820" y="11385"/>
                </a:cubicBezTo>
                <a:cubicBezTo>
                  <a:pt x="3820" y="11417"/>
                  <a:pt x="3896" y="11329"/>
                  <a:pt x="4068" y="11385"/>
                </a:cubicBezTo>
                <a:cubicBezTo>
                  <a:pt x="4302" y="11462"/>
                  <a:pt x="4450" y="11722"/>
                  <a:pt x="4142" y="11857"/>
                </a:cubicBezTo>
                <a:cubicBezTo>
                  <a:pt x="3955" y="11880"/>
                  <a:pt x="3899" y="11893"/>
                  <a:pt x="3795" y="11807"/>
                </a:cubicBezTo>
              </a:path>
              <a:path w="7169" h="2109">
                <a:moveTo>
                  <a:pt x="3820" y="11187"/>
                </a:moveTo>
                <a:cubicBezTo>
                  <a:pt x="4003" y="11118"/>
                  <a:pt x="4175" y="11081"/>
                  <a:pt x="4366" y="11038"/>
                </a:cubicBezTo>
              </a:path>
              <a:path w="7169" h="2109">
                <a:moveTo>
                  <a:pt x="4440" y="10988"/>
                </a:moveTo>
                <a:cubicBezTo>
                  <a:pt x="4420" y="11147"/>
                  <a:pt x="4351" y="11518"/>
                  <a:pt x="4663" y="11435"/>
                </a:cubicBezTo>
                <a:cubicBezTo>
                  <a:pt x="4729" y="11394"/>
                  <a:pt x="4796" y="11352"/>
                  <a:pt x="4862" y="11311"/>
                </a:cubicBezTo>
              </a:path>
              <a:path w="7169" h="2109">
                <a:moveTo>
                  <a:pt x="4911" y="10790"/>
                </a:moveTo>
                <a:cubicBezTo>
                  <a:pt x="4911" y="11147"/>
                  <a:pt x="4900" y="11501"/>
                  <a:pt x="4887" y="11857"/>
                </a:cubicBezTo>
              </a:path>
              <a:path w="7169" h="2109">
                <a:moveTo>
                  <a:pt x="5209" y="11609"/>
                </a:moveTo>
                <a:cubicBezTo>
                  <a:pt x="5209" y="11642"/>
                  <a:pt x="5209" y="11675"/>
                  <a:pt x="5209" y="11708"/>
                </a:cubicBezTo>
              </a:path>
              <a:path w="7169" h="2109">
                <a:moveTo>
                  <a:pt x="5581" y="11013"/>
                </a:moveTo>
                <a:cubicBezTo>
                  <a:pt x="5581" y="10872"/>
                  <a:pt x="5598" y="10776"/>
                  <a:pt x="5779" y="10790"/>
                </a:cubicBezTo>
                <a:cubicBezTo>
                  <a:pt x="5812" y="10807"/>
                  <a:pt x="5846" y="10823"/>
                  <a:pt x="5879" y="10840"/>
                </a:cubicBezTo>
                <a:cubicBezTo>
                  <a:pt x="5869" y="11047"/>
                  <a:pt x="5839" y="11061"/>
                  <a:pt x="5680" y="11212"/>
                </a:cubicBezTo>
                <a:cubicBezTo>
                  <a:pt x="5864" y="11221"/>
                  <a:pt x="6245" y="11243"/>
                  <a:pt x="5978" y="11509"/>
                </a:cubicBezTo>
                <a:cubicBezTo>
                  <a:pt x="5789" y="11627"/>
                  <a:pt x="5735" y="11668"/>
                  <a:pt x="5581" y="11633"/>
                </a:cubicBezTo>
              </a:path>
              <a:path w="7169" h="2109">
                <a:moveTo>
                  <a:pt x="6176" y="10740"/>
                </a:moveTo>
                <a:cubicBezTo>
                  <a:pt x="6198" y="10872"/>
                  <a:pt x="6168" y="11038"/>
                  <a:pt x="6226" y="11162"/>
                </a:cubicBezTo>
                <a:cubicBezTo>
                  <a:pt x="6317" y="11355"/>
                  <a:pt x="6604" y="11109"/>
                  <a:pt x="6697" y="11063"/>
                </a:cubicBezTo>
              </a:path>
              <a:path w="7169" h="2109">
                <a:moveTo>
                  <a:pt x="6548" y="10468"/>
                </a:moveTo>
                <a:cubicBezTo>
                  <a:pt x="6556" y="10827"/>
                  <a:pt x="6567" y="11176"/>
                  <a:pt x="6548" y="11534"/>
                </a:cubicBezTo>
                <a:cubicBezTo>
                  <a:pt x="6548" y="11567"/>
                  <a:pt x="6548" y="11600"/>
                  <a:pt x="6548" y="11633"/>
                </a:cubicBezTo>
              </a:path>
              <a:path w="7169" h="2109">
                <a:moveTo>
                  <a:pt x="7218" y="11088"/>
                </a:moveTo>
                <a:cubicBezTo>
                  <a:pt x="7203" y="11136"/>
                  <a:pt x="7163" y="11636"/>
                  <a:pt x="7119" y="11658"/>
                </a:cubicBezTo>
                <a:cubicBezTo>
                  <a:pt x="7111" y="11633"/>
                  <a:pt x="7102" y="11609"/>
                  <a:pt x="7094" y="11584"/>
                </a:cubicBezTo>
                <a:cubicBezTo>
                  <a:pt x="7101" y="11495"/>
                  <a:pt x="7116" y="10821"/>
                  <a:pt x="7367" y="10939"/>
                </a:cubicBezTo>
                <a:cubicBezTo>
                  <a:pt x="7539" y="11020"/>
                  <a:pt x="7505" y="11287"/>
                  <a:pt x="7516" y="11435"/>
                </a:cubicBezTo>
                <a:cubicBezTo>
                  <a:pt x="7516" y="11558"/>
                  <a:pt x="7547" y="11100"/>
                  <a:pt x="7565" y="11063"/>
                </a:cubicBezTo>
                <a:cubicBezTo>
                  <a:pt x="7728" y="10733"/>
                  <a:pt x="7894" y="11357"/>
                  <a:pt x="7913" y="11460"/>
                </a:cubicBezTo>
                <a:cubicBezTo>
                  <a:pt x="7913" y="11493"/>
                  <a:pt x="7913" y="11526"/>
                  <a:pt x="7913" y="11559"/>
                </a:cubicBezTo>
              </a:path>
              <a:path w="7169" h="2109">
                <a:moveTo>
                  <a:pt x="8210" y="10344"/>
                </a:moveTo>
                <a:cubicBezTo>
                  <a:pt x="8218" y="10311"/>
                  <a:pt x="8227" y="10277"/>
                  <a:pt x="8235" y="10244"/>
                </a:cubicBezTo>
                <a:cubicBezTo>
                  <a:pt x="8421" y="10235"/>
                  <a:pt x="8642" y="10279"/>
                  <a:pt x="8533" y="10542"/>
                </a:cubicBezTo>
                <a:cubicBezTo>
                  <a:pt x="8430" y="10791"/>
                  <a:pt x="8251" y="10680"/>
                  <a:pt x="8136" y="10542"/>
                </a:cubicBezTo>
                <a:cubicBezTo>
                  <a:pt x="8281" y="10552"/>
                  <a:pt x="8438" y="10619"/>
                  <a:pt x="8582" y="10616"/>
                </a:cubicBezTo>
                <a:cubicBezTo>
                  <a:pt x="8656" y="10598"/>
                  <a:pt x="8663" y="10590"/>
                  <a:pt x="8706" y="10592"/>
                </a:cubicBezTo>
              </a:path>
              <a:path w="7169" h="2109">
                <a:moveTo>
                  <a:pt x="8136" y="11385"/>
                </a:moveTo>
                <a:cubicBezTo>
                  <a:pt x="8118" y="11306"/>
                  <a:pt x="8056" y="11053"/>
                  <a:pt x="8086" y="11361"/>
                </a:cubicBezTo>
                <a:cubicBezTo>
                  <a:pt x="8106" y="11501"/>
                  <a:pt x="8115" y="11525"/>
                  <a:pt x="8111" y="11609"/>
                </a:cubicBezTo>
                <a:cubicBezTo>
                  <a:pt x="8104" y="11556"/>
                  <a:pt x="8035" y="11130"/>
                  <a:pt x="8136" y="11137"/>
                </a:cubicBezTo>
                <a:cubicBezTo>
                  <a:pt x="8251" y="11145"/>
                  <a:pt x="8458" y="11434"/>
                  <a:pt x="8359" y="11534"/>
                </a:cubicBezTo>
                <a:cubicBezTo>
                  <a:pt x="8351" y="11518"/>
                  <a:pt x="8342" y="11501"/>
                  <a:pt x="8334" y="11485"/>
                </a:cubicBezTo>
                <a:cubicBezTo>
                  <a:pt x="8334" y="11233"/>
                  <a:pt x="8318" y="11141"/>
                  <a:pt x="8508" y="10988"/>
                </a:cubicBezTo>
                <a:cubicBezTo>
                  <a:pt x="8676" y="11166"/>
                  <a:pt x="8687" y="11202"/>
                  <a:pt x="8706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0240" y="4687920"/>
            <a:ext cx="2206800" cy="866880"/>
          </a:xfrm>
          <a:custGeom>
            <a:avLst/>
            <a:gdLst/>
            <a:ahLst/>
            <a:rect l="l" t="t" r="r" b="b"/>
            <a:pathLst>
              <a:path w="6128" h="2408">
                <a:moveTo>
                  <a:pt x="5234" y="14238"/>
                </a:moveTo>
                <a:cubicBezTo>
                  <a:pt x="5428" y="14118"/>
                  <a:pt x="5532" y="14040"/>
                  <a:pt x="5755" y="14039"/>
                </a:cubicBezTo>
                <a:cubicBezTo>
                  <a:pt x="5792" y="14317"/>
                  <a:pt x="5677" y="14466"/>
                  <a:pt x="5432" y="14635"/>
                </a:cubicBezTo>
                <a:cubicBezTo>
                  <a:pt x="5424" y="14635"/>
                  <a:pt x="5415" y="14635"/>
                  <a:pt x="5407" y="14635"/>
                </a:cubicBezTo>
                <a:cubicBezTo>
                  <a:pt x="5600" y="14575"/>
                  <a:pt x="5864" y="14579"/>
                  <a:pt x="5829" y="14883"/>
                </a:cubicBezTo>
                <a:cubicBezTo>
                  <a:pt x="5783" y="15278"/>
                  <a:pt x="5341" y="15267"/>
                  <a:pt x="5085" y="15205"/>
                </a:cubicBezTo>
              </a:path>
              <a:path w="6128" h="2408">
                <a:moveTo>
                  <a:pt x="5953" y="13568"/>
                </a:moveTo>
                <a:cubicBezTo>
                  <a:pt x="6028" y="13468"/>
                  <a:pt x="6054" y="13435"/>
                  <a:pt x="6152" y="13444"/>
                </a:cubicBezTo>
                <a:cubicBezTo>
                  <a:pt x="6328" y="13641"/>
                  <a:pt x="6404" y="13859"/>
                  <a:pt x="6052" y="13965"/>
                </a:cubicBezTo>
                <a:cubicBezTo>
                  <a:pt x="5900" y="13965"/>
                  <a:pt x="5851" y="13983"/>
                  <a:pt x="5829" y="13866"/>
                </a:cubicBezTo>
                <a:cubicBezTo>
                  <a:pt x="6000" y="13739"/>
                  <a:pt x="6181" y="13717"/>
                  <a:pt x="6350" y="13915"/>
                </a:cubicBezTo>
                <a:cubicBezTo>
                  <a:pt x="6387" y="13989"/>
                  <a:pt x="6404" y="13993"/>
                  <a:pt x="6400" y="14039"/>
                </a:cubicBezTo>
              </a:path>
              <a:path w="6128" h="2408">
                <a:moveTo>
                  <a:pt x="6722" y="14511"/>
                </a:moveTo>
                <a:cubicBezTo>
                  <a:pt x="6887" y="14488"/>
                  <a:pt x="7051" y="14477"/>
                  <a:pt x="7218" y="14461"/>
                </a:cubicBezTo>
              </a:path>
              <a:path w="6128" h="2408">
                <a:moveTo>
                  <a:pt x="6648" y="14808"/>
                </a:moveTo>
                <a:cubicBezTo>
                  <a:pt x="6872" y="14781"/>
                  <a:pt x="6963" y="14768"/>
                  <a:pt x="7119" y="14734"/>
                </a:cubicBezTo>
              </a:path>
              <a:path w="6128" h="2408">
                <a:moveTo>
                  <a:pt x="7938" y="13990"/>
                </a:moveTo>
                <a:cubicBezTo>
                  <a:pt x="8121" y="14023"/>
                  <a:pt x="8383" y="14012"/>
                  <a:pt x="8483" y="14213"/>
                </a:cubicBezTo>
                <a:cubicBezTo>
                  <a:pt x="8560" y="14367"/>
                  <a:pt x="8238" y="14412"/>
                  <a:pt x="8161" y="14436"/>
                </a:cubicBezTo>
                <a:cubicBezTo>
                  <a:pt x="8420" y="14428"/>
                  <a:pt x="8521" y="14453"/>
                  <a:pt x="8731" y="14585"/>
                </a:cubicBezTo>
                <a:cubicBezTo>
                  <a:pt x="8507" y="14880"/>
                  <a:pt x="8332" y="14915"/>
                  <a:pt x="7962" y="14808"/>
                </a:cubicBezTo>
              </a:path>
              <a:path w="6128" h="2408">
                <a:moveTo>
                  <a:pt x="9103" y="13990"/>
                </a:moveTo>
                <a:cubicBezTo>
                  <a:pt x="9227" y="14244"/>
                  <a:pt x="9379" y="14480"/>
                  <a:pt x="9500" y="14734"/>
                </a:cubicBezTo>
              </a:path>
              <a:path w="6128" h="2408">
                <a:moveTo>
                  <a:pt x="9401" y="13990"/>
                </a:moveTo>
                <a:cubicBezTo>
                  <a:pt x="9314" y="14287"/>
                  <a:pt x="9230" y="14552"/>
                  <a:pt x="9103" y="14833"/>
                </a:cubicBezTo>
              </a:path>
              <a:path w="6128" h="2408">
                <a:moveTo>
                  <a:pt x="9823" y="13891"/>
                </a:moveTo>
                <a:cubicBezTo>
                  <a:pt x="9916" y="13878"/>
                  <a:pt x="10749" y="13742"/>
                  <a:pt x="10443" y="14089"/>
                </a:cubicBezTo>
                <a:cubicBezTo>
                  <a:pt x="10252" y="14216"/>
                  <a:pt x="10217" y="14260"/>
                  <a:pt x="10071" y="14263"/>
                </a:cubicBezTo>
                <a:cubicBezTo>
                  <a:pt x="10411" y="14190"/>
                  <a:pt x="10462" y="14108"/>
                  <a:pt x="10716" y="14362"/>
                </a:cubicBezTo>
                <a:cubicBezTo>
                  <a:pt x="10492" y="14634"/>
                  <a:pt x="10438" y="14626"/>
                  <a:pt x="10071" y="14684"/>
                </a:cubicBezTo>
              </a:path>
              <a:path w="6128" h="2408">
                <a:moveTo>
                  <a:pt x="8012" y="15329"/>
                </a:moveTo>
                <a:cubicBezTo>
                  <a:pt x="8231" y="15289"/>
                  <a:pt x="8434" y="15263"/>
                  <a:pt x="8657" y="15255"/>
                </a:cubicBezTo>
                <a:cubicBezTo>
                  <a:pt x="8340" y="15341"/>
                  <a:pt x="7997" y="15429"/>
                  <a:pt x="7665" y="15429"/>
                </a:cubicBezTo>
                <a:cubicBezTo>
                  <a:pt x="7434" y="15429"/>
                  <a:pt x="8107" y="15321"/>
                  <a:pt x="8334" y="15280"/>
                </a:cubicBezTo>
              </a:path>
              <a:path w="6128" h="2408">
                <a:moveTo>
                  <a:pt x="5407" y="13419"/>
                </a:moveTo>
                <a:cubicBezTo>
                  <a:pt x="5436" y="13549"/>
                  <a:pt x="5457" y="13718"/>
                  <a:pt x="5507" y="13841"/>
                </a:cubicBezTo>
                <a:cubicBezTo>
                  <a:pt x="5545" y="13933"/>
                  <a:pt x="5768" y="14121"/>
                  <a:pt x="5854" y="14163"/>
                </a:cubicBezTo>
                <a:cubicBezTo>
                  <a:pt x="6052" y="14260"/>
                  <a:pt x="6411" y="14256"/>
                  <a:pt x="6598" y="14139"/>
                </a:cubicBezTo>
                <a:cubicBezTo>
                  <a:pt x="6778" y="14026"/>
                  <a:pt x="6956" y="13713"/>
                  <a:pt x="6921" y="13494"/>
                </a:cubicBezTo>
                <a:cubicBezTo>
                  <a:pt x="6874" y="13198"/>
                  <a:pt x="6536" y="13058"/>
                  <a:pt x="6276" y="13022"/>
                </a:cubicBezTo>
                <a:cubicBezTo>
                  <a:pt x="5944" y="12976"/>
                  <a:pt x="5670" y="13054"/>
                  <a:pt x="5531" y="13370"/>
                </a:cubicBezTo>
                <a:cubicBezTo>
                  <a:pt x="5402" y="13663"/>
                  <a:pt x="5453" y="13745"/>
                  <a:pt x="5606" y="13965"/>
                </a:cubicBezTo>
              </a:path>
              <a:path w="6128" h="2408">
                <a:moveTo>
                  <a:pt x="7739" y="15379"/>
                </a:moveTo>
                <a:lnTo>
                  <a:pt x="7739" y="15379"/>
                </a:lnTo>
              </a:path>
              <a:path w="6128" h="2408">
                <a:moveTo>
                  <a:pt x="7243" y="14337"/>
                </a:moveTo>
                <a:cubicBezTo>
                  <a:pt x="7319" y="14337"/>
                  <a:pt x="7345" y="14338"/>
                  <a:pt x="7392" y="14362"/>
                </a:cubicBezTo>
              </a:path>
              <a:path w="6128" h="2408">
                <a:moveTo>
                  <a:pt x="7640" y="14436"/>
                </a:moveTo>
                <a:cubicBezTo>
                  <a:pt x="7551" y="14601"/>
                  <a:pt x="7449" y="14763"/>
                  <a:pt x="7441" y="14957"/>
                </a:cubicBezTo>
                <a:cubicBezTo>
                  <a:pt x="7437" y="15064"/>
                  <a:pt x="7570" y="14807"/>
                  <a:pt x="7615" y="14709"/>
                </a:cubicBezTo>
                <a:cubicBezTo>
                  <a:pt x="7615" y="14624"/>
                  <a:pt x="7621" y="14579"/>
                  <a:pt x="7590" y="14660"/>
                </a:cubicBezTo>
                <a:cubicBezTo>
                  <a:pt x="7474" y="14943"/>
                  <a:pt x="7634" y="15007"/>
                  <a:pt x="7739" y="14734"/>
                </a:cubicBezTo>
                <a:cubicBezTo>
                  <a:pt x="7779" y="14631"/>
                  <a:pt x="7720" y="14599"/>
                  <a:pt x="7665" y="14610"/>
                </a:cubicBezTo>
              </a:path>
              <a:path w="6128" h="2408">
                <a:moveTo>
                  <a:pt x="10939" y="14114"/>
                </a:moveTo>
                <a:cubicBezTo>
                  <a:pt x="11071" y="14087"/>
                  <a:pt x="11120" y="14078"/>
                  <a:pt x="11212" y="14064"/>
                </a:cubicBezTo>
              </a:path>
              <a:path w="6128" h="2408">
                <a:moveTo>
                  <a:pt x="10988" y="14263"/>
                </a:moveTo>
                <a:cubicBezTo>
                  <a:pt x="11082" y="14263"/>
                  <a:pt x="11140" y="14251"/>
                  <a:pt x="11212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49800" y="4956120"/>
            <a:ext cx="2509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12278" y="14114"/>
                </a:moveTo>
                <a:cubicBezTo>
                  <a:pt x="12330" y="13985"/>
                  <a:pt x="12346" y="13938"/>
                  <a:pt x="12303" y="13841"/>
                </a:cubicBezTo>
                <a:cubicBezTo>
                  <a:pt x="12008" y="13734"/>
                  <a:pt x="11925" y="13805"/>
                  <a:pt x="11807" y="14089"/>
                </a:cubicBezTo>
                <a:cubicBezTo>
                  <a:pt x="12091" y="14113"/>
                  <a:pt x="12188" y="14025"/>
                  <a:pt x="12378" y="13791"/>
                </a:cubicBezTo>
                <a:cubicBezTo>
                  <a:pt x="12385" y="14056"/>
                  <a:pt x="12392" y="14306"/>
                  <a:pt x="12477" y="14560"/>
                </a:cubicBezTo>
                <a:cubicBezTo>
                  <a:pt x="12485" y="14577"/>
                  <a:pt x="12494" y="14593"/>
                  <a:pt x="12502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3080" y="4687920"/>
            <a:ext cx="3650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6297" y="13469"/>
                </a:moveTo>
                <a:cubicBezTo>
                  <a:pt x="16145" y="13235"/>
                  <a:pt x="16004" y="13102"/>
                  <a:pt x="15801" y="13395"/>
                </a:cubicBezTo>
                <a:cubicBezTo>
                  <a:pt x="15645" y="13619"/>
                  <a:pt x="15725" y="14029"/>
                  <a:pt x="15999" y="13692"/>
                </a:cubicBezTo>
                <a:cubicBezTo>
                  <a:pt x="16040" y="13618"/>
                  <a:pt x="16082" y="13543"/>
                  <a:pt x="16123" y="13469"/>
                </a:cubicBezTo>
                <a:cubicBezTo>
                  <a:pt x="16148" y="13444"/>
                  <a:pt x="16172" y="13420"/>
                  <a:pt x="16197" y="13395"/>
                </a:cubicBezTo>
                <a:cubicBezTo>
                  <a:pt x="16173" y="13618"/>
                  <a:pt x="16177" y="13840"/>
                  <a:pt x="16148" y="14064"/>
                </a:cubicBezTo>
                <a:cubicBezTo>
                  <a:pt x="16140" y="14105"/>
                  <a:pt x="16131" y="14147"/>
                  <a:pt x="16123" y="14188"/>
                </a:cubicBezTo>
              </a:path>
              <a:path w="1018" h="1167">
                <a:moveTo>
                  <a:pt x="16421" y="13072"/>
                </a:moveTo>
                <a:cubicBezTo>
                  <a:pt x="16580" y="13003"/>
                  <a:pt x="16837" y="13060"/>
                  <a:pt x="16718" y="13320"/>
                </a:cubicBezTo>
                <a:cubicBezTo>
                  <a:pt x="16654" y="13461"/>
                  <a:pt x="16504" y="13435"/>
                  <a:pt x="16396" y="13419"/>
                </a:cubicBezTo>
                <a:cubicBezTo>
                  <a:pt x="16529" y="13320"/>
                  <a:pt x="16547" y="13346"/>
                  <a:pt x="16718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2040" y="4875120"/>
            <a:ext cx="135000" cy="117720"/>
          </a:xfrm>
          <a:custGeom>
            <a:avLst/>
            <a:gdLst/>
            <a:ahLst/>
            <a:rect l="l" t="t" r="r" b="b"/>
            <a:pathLst>
              <a:path w="374" h="324">
                <a:moveTo>
                  <a:pt x="17338" y="13593"/>
                </a:moveTo>
                <a:cubicBezTo>
                  <a:pt x="17464" y="13577"/>
                  <a:pt x="17584" y="13555"/>
                  <a:pt x="17711" y="13543"/>
                </a:cubicBezTo>
              </a:path>
              <a:path w="374" h="324">
                <a:moveTo>
                  <a:pt x="17438" y="13866"/>
                </a:moveTo>
                <a:cubicBezTo>
                  <a:pt x="17496" y="13858"/>
                  <a:pt x="17553" y="13849"/>
                  <a:pt x="17611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80160" y="4554360"/>
            <a:ext cx="1276560" cy="428760"/>
          </a:xfrm>
          <a:custGeom>
            <a:avLst/>
            <a:gdLst/>
            <a:ahLst/>
            <a:rect l="l" t="t" r="r" b="b"/>
            <a:pathLst>
              <a:path w="3548" h="1192">
                <a:moveTo>
                  <a:pt x="19075" y="13171"/>
                </a:moveTo>
                <a:cubicBezTo>
                  <a:pt x="19110" y="13065"/>
                  <a:pt x="19003" y="12903"/>
                  <a:pt x="18852" y="12948"/>
                </a:cubicBezTo>
                <a:cubicBezTo>
                  <a:pt x="18617" y="13017"/>
                  <a:pt x="18419" y="13584"/>
                  <a:pt x="18728" y="13444"/>
                </a:cubicBezTo>
                <a:cubicBezTo>
                  <a:pt x="18858" y="13314"/>
                  <a:pt x="18903" y="13266"/>
                  <a:pt x="18951" y="13146"/>
                </a:cubicBezTo>
                <a:cubicBezTo>
                  <a:pt x="18959" y="13121"/>
                  <a:pt x="18968" y="13097"/>
                  <a:pt x="18976" y="13072"/>
                </a:cubicBezTo>
                <a:cubicBezTo>
                  <a:pt x="18976" y="13311"/>
                  <a:pt x="18973" y="13555"/>
                  <a:pt x="18926" y="13791"/>
                </a:cubicBezTo>
                <a:cubicBezTo>
                  <a:pt x="18918" y="13808"/>
                  <a:pt x="18909" y="13824"/>
                  <a:pt x="18901" y="13841"/>
                </a:cubicBezTo>
              </a:path>
              <a:path w="3548" h="1192">
                <a:moveTo>
                  <a:pt x="19298" y="13072"/>
                </a:moveTo>
                <a:cubicBezTo>
                  <a:pt x="19445" y="13325"/>
                  <a:pt x="19552" y="13477"/>
                  <a:pt x="19794" y="13643"/>
                </a:cubicBezTo>
              </a:path>
              <a:path w="3548" h="1192">
                <a:moveTo>
                  <a:pt x="19645" y="13097"/>
                </a:moveTo>
                <a:cubicBezTo>
                  <a:pt x="19460" y="13329"/>
                  <a:pt x="19404" y="13393"/>
                  <a:pt x="19323" y="13568"/>
                </a:cubicBezTo>
              </a:path>
              <a:path w="3548" h="1192">
                <a:moveTo>
                  <a:pt x="20414" y="12998"/>
                </a:moveTo>
                <a:cubicBezTo>
                  <a:pt x="20215" y="12857"/>
                  <a:pt x="20030" y="13014"/>
                  <a:pt x="19893" y="13196"/>
                </a:cubicBezTo>
                <a:cubicBezTo>
                  <a:pt x="19885" y="13229"/>
                  <a:pt x="19877" y="13262"/>
                  <a:pt x="19869" y="13295"/>
                </a:cubicBezTo>
                <a:cubicBezTo>
                  <a:pt x="20090" y="13255"/>
                  <a:pt x="20118" y="13218"/>
                  <a:pt x="20265" y="13047"/>
                </a:cubicBezTo>
                <a:cubicBezTo>
                  <a:pt x="20252" y="13274"/>
                  <a:pt x="20223" y="13491"/>
                  <a:pt x="20191" y="13717"/>
                </a:cubicBezTo>
              </a:path>
              <a:path w="3548" h="1192">
                <a:moveTo>
                  <a:pt x="20662" y="13221"/>
                </a:moveTo>
                <a:cubicBezTo>
                  <a:pt x="20721" y="13221"/>
                  <a:pt x="20747" y="13218"/>
                  <a:pt x="20786" y="13196"/>
                </a:cubicBezTo>
              </a:path>
              <a:path w="3548" h="1192">
                <a:moveTo>
                  <a:pt x="20662" y="13395"/>
                </a:moveTo>
                <a:cubicBezTo>
                  <a:pt x="20720" y="13395"/>
                  <a:pt x="20778" y="13395"/>
                  <a:pt x="20836" y="13395"/>
                </a:cubicBezTo>
              </a:path>
              <a:path w="3548" h="1192">
                <a:moveTo>
                  <a:pt x="21456" y="12750"/>
                </a:moveTo>
                <a:cubicBezTo>
                  <a:pt x="21228" y="12955"/>
                  <a:pt x="21088" y="13033"/>
                  <a:pt x="21332" y="13295"/>
                </a:cubicBezTo>
                <a:cubicBezTo>
                  <a:pt x="21476" y="13450"/>
                  <a:pt x="21571" y="13427"/>
                  <a:pt x="21506" y="13593"/>
                </a:cubicBezTo>
                <a:cubicBezTo>
                  <a:pt x="21183" y="13448"/>
                  <a:pt x="21354" y="13309"/>
                  <a:pt x="21555" y="13072"/>
                </a:cubicBezTo>
              </a:path>
              <a:path w="3548" h="1192">
                <a:moveTo>
                  <a:pt x="22101" y="12650"/>
                </a:moveTo>
                <a:cubicBezTo>
                  <a:pt x="22075" y="12923"/>
                  <a:pt x="22052" y="13196"/>
                  <a:pt x="22027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5680080"/>
            <a:ext cx="787320" cy="473040"/>
          </a:xfrm>
          <a:custGeom>
            <a:avLst/>
            <a:gdLst/>
            <a:ahLst/>
            <a:rect l="l" t="t" r="r" b="b"/>
            <a:pathLst>
              <a:path w="2184" h="1315">
                <a:moveTo>
                  <a:pt x="5234" y="16520"/>
                </a:moveTo>
                <a:cubicBezTo>
                  <a:pt x="5234" y="16617"/>
                  <a:pt x="5229" y="16699"/>
                  <a:pt x="5209" y="16793"/>
                </a:cubicBezTo>
                <a:cubicBezTo>
                  <a:pt x="5399" y="16748"/>
                  <a:pt x="5589" y="16716"/>
                  <a:pt x="5779" y="16669"/>
                </a:cubicBezTo>
              </a:path>
              <a:path w="2184" h="1315">
                <a:moveTo>
                  <a:pt x="5581" y="16197"/>
                </a:moveTo>
                <a:cubicBezTo>
                  <a:pt x="5642" y="16497"/>
                  <a:pt x="5703" y="16794"/>
                  <a:pt x="5779" y="17090"/>
                </a:cubicBezTo>
              </a:path>
              <a:path w="2184" h="1315">
                <a:moveTo>
                  <a:pt x="6077" y="15801"/>
                </a:moveTo>
                <a:cubicBezTo>
                  <a:pt x="6296" y="15801"/>
                  <a:pt x="6602" y="15856"/>
                  <a:pt x="6474" y="16173"/>
                </a:cubicBezTo>
                <a:cubicBezTo>
                  <a:pt x="6396" y="16366"/>
                  <a:pt x="6252" y="16258"/>
                  <a:pt x="6152" y="16197"/>
                </a:cubicBezTo>
                <a:cubicBezTo>
                  <a:pt x="6238" y="16078"/>
                  <a:pt x="6459" y="16109"/>
                  <a:pt x="6623" y="16148"/>
                </a:cubicBezTo>
                <a:cubicBezTo>
                  <a:pt x="6639" y="16156"/>
                  <a:pt x="6656" y="16165"/>
                  <a:pt x="6672" y="16173"/>
                </a:cubicBezTo>
              </a:path>
              <a:path w="2184" h="1315">
                <a:moveTo>
                  <a:pt x="6945" y="16297"/>
                </a:moveTo>
                <a:cubicBezTo>
                  <a:pt x="7105" y="16297"/>
                  <a:pt x="7165" y="16294"/>
                  <a:pt x="7268" y="16247"/>
                </a:cubicBezTo>
              </a:path>
              <a:path w="2184" h="1315">
                <a:moveTo>
                  <a:pt x="7069" y="16594"/>
                </a:moveTo>
                <a:cubicBezTo>
                  <a:pt x="7219" y="16565"/>
                  <a:pt x="7286" y="16551"/>
                  <a:pt x="7392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9240" y="5537160"/>
            <a:ext cx="812880" cy="517680"/>
          </a:xfrm>
          <a:custGeom>
            <a:avLst/>
            <a:gdLst/>
            <a:ahLst/>
            <a:rect l="l" t="t" r="r" b="b"/>
            <a:pathLst>
              <a:path w="2258" h="1440">
                <a:moveTo>
                  <a:pt x="8285" y="16049"/>
                </a:moveTo>
                <a:cubicBezTo>
                  <a:pt x="8246" y="16231"/>
                  <a:pt x="8211" y="16338"/>
                  <a:pt x="8111" y="16495"/>
                </a:cubicBezTo>
                <a:cubicBezTo>
                  <a:pt x="8350" y="16402"/>
                  <a:pt x="8583" y="16319"/>
                  <a:pt x="8830" y="16247"/>
                </a:cubicBezTo>
              </a:path>
              <a:path w="2258" h="1440">
                <a:moveTo>
                  <a:pt x="8657" y="15776"/>
                </a:moveTo>
                <a:cubicBezTo>
                  <a:pt x="8643" y="16128"/>
                  <a:pt x="8668" y="16466"/>
                  <a:pt x="8682" y="16818"/>
                </a:cubicBezTo>
              </a:path>
              <a:path w="2258" h="1440">
                <a:moveTo>
                  <a:pt x="9178" y="16173"/>
                </a:moveTo>
                <a:cubicBezTo>
                  <a:pt x="9392" y="16302"/>
                  <a:pt x="9509" y="16460"/>
                  <a:pt x="9674" y="16247"/>
                </a:cubicBezTo>
              </a:path>
              <a:path w="2258" h="1440">
                <a:moveTo>
                  <a:pt x="9575" y="15776"/>
                </a:moveTo>
                <a:cubicBezTo>
                  <a:pt x="9482" y="16023"/>
                  <a:pt x="9408" y="16268"/>
                  <a:pt x="9327" y="16520"/>
                </a:cubicBezTo>
              </a:path>
              <a:path w="2258" h="1440">
                <a:moveTo>
                  <a:pt x="9798" y="15999"/>
                </a:moveTo>
                <a:cubicBezTo>
                  <a:pt x="9714" y="16110"/>
                  <a:pt x="9827" y="16044"/>
                  <a:pt x="10021" y="16049"/>
                </a:cubicBezTo>
                <a:cubicBezTo>
                  <a:pt x="10349" y="16058"/>
                  <a:pt x="10406" y="16031"/>
                  <a:pt x="10368" y="15677"/>
                </a:cubicBezTo>
                <a:cubicBezTo>
                  <a:pt x="10352" y="15594"/>
                  <a:pt x="10335" y="15512"/>
                  <a:pt x="10319" y="15429"/>
                </a:cubicBezTo>
                <a:cubicBezTo>
                  <a:pt x="10293" y="15377"/>
                  <a:pt x="10290" y="16132"/>
                  <a:pt x="10294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566100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0964" y="15801"/>
                </a:moveTo>
                <a:cubicBezTo>
                  <a:pt x="11145" y="15755"/>
                  <a:pt x="11193" y="15742"/>
                  <a:pt x="11311" y="15726"/>
                </a:cubicBezTo>
              </a:path>
              <a:path w="348" h="348">
                <a:moveTo>
                  <a:pt x="10964" y="16073"/>
                </a:moveTo>
                <a:cubicBezTo>
                  <a:pt x="11022" y="16048"/>
                  <a:pt x="11079" y="16024"/>
                  <a:pt x="11137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03800" y="5464080"/>
            <a:ext cx="411120" cy="3762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2005" y="15528"/>
                </a:moveTo>
                <a:cubicBezTo>
                  <a:pt x="12059" y="15581"/>
                  <a:pt x="11995" y="16001"/>
                  <a:pt x="11956" y="16222"/>
                </a:cubicBezTo>
              </a:path>
              <a:path w="1142" h="1043">
                <a:moveTo>
                  <a:pt x="12700" y="15280"/>
                </a:moveTo>
                <a:cubicBezTo>
                  <a:pt x="12467" y="15474"/>
                  <a:pt x="12276" y="15587"/>
                  <a:pt x="12502" y="15850"/>
                </a:cubicBezTo>
                <a:cubicBezTo>
                  <a:pt x="12630" y="15979"/>
                  <a:pt x="12685" y="16001"/>
                  <a:pt x="12626" y="16123"/>
                </a:cubicBezTo>
                <a:cubicBezTo>
                  <a:pt x="12280" y="16196"/>
                  <a:pt x="12374" y="15977"/>
                  <a:pt x="12551" y="15726"/>
                </a:cubicBezTo>
                <a:cubicBezTo>
                  <a:pt x="12679" y="15580"/>
                  <a:pt x="12706" y="15576"/>
                  <a:pt x="12750" y="15478"/>
                </a:cubicBezTo>
              </a:path>
              <a:path w="1142" h="1043">
                <a:moveTo>
                  <a:pt x="12626" y="15180"/>
                </a:moveTo>
                <a:cubicBezTo>
                  <a:pt x="12529" y="15374"/>
                  <a:pt x="12378" y="15646"/>
                  <a:pt x="12427" y="15875"/>
                </a:cubicBezTo>
                <a:cubicBezTo>
                  <a:pt x="12482" y="16133"/>
                  <a:pt x="12784" y="16038"/>
                  <a:pt x="12923" y="15925"/>
                </a:cubicBezTo>
                <a:cubicBezTo>
                  <a:pt x="13056" y="15816"/>
                  <a:pt x="13114" y="15701"/>
                  <a:pt x="13047" y="15553"/>
                </a:cubicBezTo>
                <a:cubicBezTo>
                  <a:pt x="12871" y="15553"/>
                  <a:pt x="12674" y="15626"/>
                  <a:pt x="12650" y="15850"/>
                </a:cubicBezTo>
                <a:cubicBezTo>
                  <a:pt x="12670" y="15992"/>
                  <a:pt x="12668" y="16019"/>
                  <a:pt x="12700" y="16098"/>
                </a:cubicBezTo>
                <a:cubicBezTo>
                  <a:pt x="12700" y="15949"/>
                  <a:pt x="12700" y="15842"/>
                  <a:pt x="12750" y="15701"/>
                </a:cubicBezTo>
                <a:cubicBezTo>
                  <a:pt x="12791" y="15597"/>
                  <a:pt x="12793" y="15570"/>
                  <a:pt x="12849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27800" y="5224320"/>
            <a:ext cx="563400" cy="473040"/>
          </a:xfrm>
          <a:custGeom>
            <a:avLst/>
            <a:gdLst/>
            <a:ahLst/>
            <a:rect l="l" t="t" r="r" b="b"/>
            <a:pathLst>
              <a:path w="1564" h="1315">
                <a:moveTo>
                  <a:pt x="15429" y="15032"/>
                </a:moveTo>
                <a:cubicBezTo>
                  <a:pt x="15429" y="15310"/>
                  <a:pt x="15409" y="15553"/>
                  <a:pt x="15354" y="15825"/>
                </a:cubicBezTo>
              </a:path>
              <a:path w="1564" h="1315">
                <a:moveTo>
                  <a:pt x="15925" y="15007"/>
                </a:moveTo>
                <a:cubicBezTo>
                  <a:pt x="16055" y="14974"/>
                  <a:pt x="16120" y="14966"/>
                  <a:pt x="16222" y="14982"/>
                </a:cubicBezTo>
                <a:cubicBezTo>
                  <a:pt x="16368" y="15286"/>
                  <a:pt x="16381" y="15600"/>
                  <a:pt x="15949" y="15701"/>
                </a:cubicBezTo>
                <a:cubicBezTo>
                  <a:pt x="15908" y="15693"/>
                  <a:pt x="15866" y="15685"/>
                  <a:pt x="15825" y="15677"/>
                </a:cubicBezTo>
                <a:cubicBezTo>
                  <a:pt x="15900" y="15436"/>
                  <a:pt x="16044" y="15073"/>
                  <a:pt x="16371" y="15304"/>
                </a:cubicBezTo>
                <a:cubicBezTo>
                  <a:pt x="16442" y="15423"/>
                  <a:pt x="16467" y="15457"/>
                  <a:pt x="16446" y="15553"/>
                </a:cubicBezTo>
              </a:path>
              <a:path w="1564" h="1315">
                <a:moveTo>
                  <a:pt x="16470" y="14585"/>
                </a:moveTo>
                <a:cubicBezTo>
                  <a:pt x="16685" y="14518"/>
                  <a:pt x="16947" y="14629"/>
                  <a:pt x="16793" y="14932"/>
                </a:cubicBezTo>
                <a:cubicBezTo>
                  <a:pt x="16707" y="15102"/>
                  <a:pt x="16600" y="15076"/>
                  <a:pt x="16495" y="15007"/>
                </a:cubicBezTo>
                <a:cubicBezTo>
                  <a:pt x="16610" y="14812"/>
                  <a:pt x="16694" y="14803"/>
                  <a:pt x="16917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8240" y="5313240"/>
            <a:ext cx="637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7661" y="14808"/>
                </a:moveTo>
                <a:cubicBezTo>
                  <a:pt x="17711" y="14792"/>
                  <a:pt x="17760" y="14775"/>
                  <a:pt x="17810" y="14759"/>
                </a:cubicBezTo>
              </a:path>
              <a:path w="175" h="398">
                <a:moveTo>
                  <a:pt x="17636" y="15156"/>
                </a:moveTo>
                <a:cubicBezTo>
                  <a:pt x="17694" y="15139"/>
                  <a:pt x="17752" y="15123"/>
                  <a:pt x="1781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0160" y="5133960"/>
            <a:ext cx="1089000" cy="438120"/>
          </a:xfrm>
          <a:custGeom>
            <a:avLst/>
            <a:gdLst/>
            <a:ahLst/>
            <a:rect l="l" t="t" r="r" b="b"/>
            <a:pathLst>
              <a:path w="3027" h="1216">
                <a:moveTo>
                  <a:pt x="18653" y="14635"/>
                </a:moveTo>
                <a:cubicBezTo>
                  <a:pt x="18653" y="14570"/>
                  <a:pt x="18652" y="14571"/>
                  <a:pt x="18678" y="14511"/>
                </a:cubicBezTo>
                <a:cubicBezTo>
                  <a:pt x="18678" y="14753"/>
                  <a:pt x="18666" y="15016"/>
                  <a:pt x="18628" y="15255"/>
                </a:cubicBezTo>
                <a:cubicBezTo>
                  <a:pt x="18590" y="15389"/>
                  <a:pt x="18593" y="15409"/>
                  <a:pt x="18554" y="15478"/>
                </a:cubicBezTo>
              </a:path>
              <a:path w="3027" h="1216">
                <a:moveTo>
                  <a:pt x="18901" y="14684"/>
                </a:moveTo>
                <a:cubicBezTo>
                  <a:pt x="19027" y="14595"/>
                  <a:pt x="19080" y="14565"/>
                  <a:pt x="19224" y="14536"/>
                </a:cubicBezTo>
                <a:cubicBezTo>
                  <a:pt x="19275" y="14754"/>
                  <a:pt x="19322" y="15154"/>
                  <a:pt x="18976" y="15205"/>
                </a:cubicBezTo>
                <a:cubicBezTo>
                  <a:pt x="18935" y="15189"/>
                  <a:pt x="18893" y="15172"/>
                  <a:pt x="18852" y="15156"/>
                </a:cubicBezTo>
                <a:cubicBezTo>
                  <a:pt x="18908" y="14959"/>
                  <a:pt x="19059" y="14965"/>
                  <a:pt x="19248" y="15081"/>
                </a:cubicBezTo>
                <a:cubicBezTo>
                  <a:pt x="19311" y="15144"/>
                  <a:pt x="19328" y="15154"/>
                  <a:pt x="19348" y="15205"/>
                </a:cubicBezTo>
              </a:path>
              <a:path w="3027" h="1216">
                <a:moveTo>
                  <a:pt x="19745" y="14660"/>
                </a:moveTo>
                <a:cubicBezTo>
                  <a:pt x="19845" y="14824"/>
                  <a:pt x="19967" y="14969"/>
                  <a:pt x="20067" y="15131"/>
                </a:cubicBezTo>
              </a:path>
              <a:path w="3027" h="1216">
                <a:moveTo>
                  <a:pt x="20017" y="14436"/>
                </a:moveTo>
                <a:cubicBezTo>
                  <a:pt x="19929" y="14702"/>
                  <a:pt x="19840" y="14967"/>
                  <a:pt x="19745" y="15230"/>
                </a:cubicBezTo>
              </a:path>
              <a:path w="3027" h="1216">
                <a:moveTo>
                  <a:pt x="20315" y="14387"/>
                </a:moveTo>
                <a:cubicBezTo>
                  <a:pt x="20356" y="14563"/>
                  <a:pt x="20340" y="14788"/>
                  <a:pt x="20340" y="14982"/>
                </a:cubicBezTo>
              </a:path>
              <a:path w="3027" h="1216">
                <a:moveTo>
                  <a:pt x="20588" y="14362"/>
                </a:moveTo>
                <a:cubicBezTo>
                  <a:pt x="20811" y="14213"/>
                  <a:pt x="21008" y="14308"/>
                  <a:pt x="21034" y="14610"/>
                </a:cubicBezTo>
                <a:cubicBezTo>
                  <a:pt x="21060" y="14921"/>
                  <a:pt x="20777" y="14977"/>
                  <a:pt x="20588" y="14883"/>
                </a:cubicBezTo>
                <a:cubicBezTo>
                  <a:pt x="20773" y="14727"/>
                  <a:pt x="20839" y="14718"/>
                  <a:pt x="21084" y="14784"/>
                </a:cubicBezTo>
              </a:path>
              <a:path w="3027" h="1216">
                <a:moveTo>
                  <a:pt x="21431" y="14362"/>
                </a:moveTo>
                <a:cubicBezTo>
                  <a:pt x="21481" y="14354"/>
                  <a:pt x="21530" y="14345"/>
                  <a:pt x="21580" y="14337"/>
                </a:cubicBezTo>
              </a:path>
              <a:path w="3027" h="1216">
                <a:moveTo>
                  <a:pt x="21357" y="14660"/>
                </a:moveTo>
                <a:cubicBezTo>
                  <a:pt x="21415" y="14643"/>
                  <a:pt x="21472" y="14627"/>
                  <a:pt x="2153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83360" y="4964040"/>
            <a:ext cx="500400" cy="385920"/>
          </a:xfrm>
          <a:custGeom>
            <a:avLst/>
            <a:gdLst/>
            <a:ahLst/>
            <a:rect l="l" t="t" r="r" b="b"/>
            <a:pathLst>
              <a:path w="1390" h="1068">
                <a:moveTo>
                  <a:pt x="22200" y="14163"/>
                </a:moveTo>
                <a:cubicBezTo>
                  <a:pt x="22213" y="14402"/>
                  <a:pt x="22202" y="14619"/>
                  <a:pt x="22175" y="14858"/>
                </a:cubicBezTo>
              </a:path>
              <a:path w="1390" h="1068">
                <a:moveTo>
                  <a:pt x="22498" y="14188"/>
                </a:moveTo>
                <a:cubicBezTo>
                  <a:pt x="22468" y="14349"/>
                  <a:pt x="22456" y="14573"/>
                  <a:pt x="22721" y="14486"/>
                </a:cubicBezTo>
                <a:cubicBezTo>
                  <a:pt x="22787" y="14445"/>
                  <a:pt x="22854" y="14403"/>
                  <a:pt x="22920" y="14362"/>
                </a:cubicBezTo>
              </a:path>
              <a:path w="1390" h="1068">
                <a:moveTo>
                  <a:pt x="22895" y="13965"/>
                </a:moveTo>
                <a:cubicBezTo>
                  <a:pt x="22840" y="14235"/>
                  <a:pt x="22845" y="14509"/>
                  <a:pt x="22820" y="14784"/>
                </a:cubicBezTo>
              </a:path>
              <a:path w="1390" h="1068">
                <a:moveTo>
                  <a:pt x="23093" y="14064"/>
                </a:moveTo>
                <a:cubicBezTo>
                  <a:pt x="23116" y="14184"/>
                  <a:pt x="23122" y="14500"/>
                  <a:pt x="23341" y="14436"/>
                </a:cubicBezTo>
                <a:cubicBezTo>
                  <a:pt x="23391" y="14403"/>
                  <a:pt x="23440" y="14370"/>
                  <a:pt x="23490" y="14337"/>
                </a:cubicBezTo>
              </a:path>
              <a:path w="1390" h="1068">
                <a:moveTo>
                  <a:pt x="23564" y="13791"/>
                </a:moveTo>
                <a:cubicBezTo>
                  <a:pt x="23534" y="14131"/>
                  <a:pt x="23549" y="14499"/>
                  <a:pt x="23490" y="14833"/>
                </a:cubicBezTo>
                <a:cubicBezTo>
                  <a:pt x="23482" y="14841"/>
                  <a:pt x="23473" y="14850"/>
                  <a:pt x="2346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17800" y="6170760"/>
            <a:ext cx="706320" cy="347400"/>
          </a:xfrm>
          <a:custGeom>
            <a:avLst/>
            <a:gdLst/>
            <a:ahLst/>
            <a:rect l="l" t="t" r="r" b="b"/>
            <a:pathLst>
              <a:path w="1960" h="968">
                <a:moveTo>
                  <a:pt x="5606" y="17537"/>
                </a:moveTo>
                <a:cubicBezTo>
                  <a:pt x="5781" y="17522"/>
                  <a:pt x="5952" y="17438"/>
                  <a:pt x="6127" y="17438"/>
                </a:cubicBezTo>
                <a:cubicBezTo>
                  <a:pt x="6143" y="17446"/>
                  <a:pt x="6160" y="17454"/>
                  <a:pt x="6176" y="17462"/>
                </a:cubicBezTo>
                <a:cubicBezTo>
                  <a:pt x="6193" y="17690"/>
                  <a:pt x="6153" y="17882"/>
                  <a:pt x="6127" y="18107"/>
                </a:cubicBezTo>
              </a:path>
              <a:path w="1960" h="968">
                <a:moveTo>
                  <a:pt x="6424" y="17190"/>
                </a:moveTo>
                <a:cubicBezTo>
                  <a:pt x="6532" y="17170"/>
                  <a:pt x="6589" y="17159"/>
                  <a:pt x="6697" y="17165"/>
                </a:cubicBezTo>
                <a:cubicBezTo>
                  <a:pt x="6659" y="17284"/>
                  <a:pt x="6590" y="17359"/>
                  <a:pt x="6548" y="17462"/>
                </a:cubicBezTo>
                <a:cubicBezTo>
                  <a:pt x="6731" y="17440"/>
                  <a:pt x="6830" y="17403"/>
                  <a:pt x="6995" y="17314"/>
                </a:cubicBezTo>
              </a:path>
              <a:path w="1960" h="968">
                <a:moveTo>
                  <a:pt x="7417" y="17363"/>
                </a:moveTo>
                <a:cubicBezTo>
                  <a:pt x="7450" y="17363"/>
                  <a:pt x="7483" y="17363"/>
                  <a:pt x="7516" y="17363"/>
                </a:cubicBezTo>
              </a:path>
              <a:path w="1960" h="968">
                <a:moveTo>
                  <a:pt x="7367" y="17661"/>
                </a:moveTo>
                <a:cubicBezTo>
                  <a:pt x="7433" y="17620"/>
                  <a:pt x="7499" y="17578"/>
                  <a:pt x="7565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9240" y="6062760"/>
            <a:ext cx="965520" cy="358560"/>
          </a:xfrm>
          <a:custGeom>
            <a:avLst/>
            <a:gdLst/>
            <a:ahLst/>
            <a:rect l="l" t="t" r="r" b="b"/>
            <a:pathLst>
              <a:path w="2680" h="994">
                <a:moveTo>
                  <a:pt x="8111" y="17239"/>
                </a:moveTo>
                <a:cubicBezTo>
                  <a:pt x="8308" y="17157"/>
                  <a:pt x="8496" y="17127"/>
                  <a:pt x="8706" y="17090"/>
                </a:cubicBezTo>
                <a:cubicBezTo>
                  <a:pt x="8718" y="17350"/>
                  <a:pt x="8644" y="17579"/>
                  <a:pt x="8582" y="17835"/>
                </a:cubicBezTo>
              </a:path>
              <a:path w="2680" h="994">
                <a:moveTo>
                  <a:pt x="8880" y="17090"/>
                </a:moveTo>
                <a:cubicBezTo>
                  <a:pt x="9016" y="17255"/>
                  <a:pt x="9149" y="17397"/>
                  <a:pt x="9327" y="17512"/>
                </a:cubicBezTo>
              </a:path>
              <a:path w="2680" h="994">
                <a:moveTo>
                  <a:pt x="9227" y="17140"/>
                </a:moveTo>
                <a:cubicBezTo>
                  <a:pt x="9160" y="17319"/>
                  <a:pt x="9139" y="17365"/>
                  <a:pt x="9128" y="17487"/>
                </a:cubicBezTo>
              </a:path>
              <a:path w="2680" h="994">
                <a:moveTo>
                  <a:pt x="9500" y="16966"/>
                </a:moveTo>
                <a:cubicBezTo>
                  <a:pt x="9647" y="16930"/>
                  <a:pt x="9800" y="16892"/>
                  <a:pt x="9947" y="16867"/>
                </a:cubicBezTo>
                <a:cubicBezTo>
                  <a:pt x="9928" y="17105"/>
                  <a:pt x="9866" y="17309"/>
                  <a:pt x="9798" y="17537"/>
                </a:cubicBezTo>
              </a:path>
              <a:path w="2680" h="994">
                <a:moveTo>
                  <a:pt x="10542" y="16842"/>
                </a:moveTo>
                <a:cubicBezTo>
                  <a:pt x="10658" y="16842"/>
                  <a:pt x="10674" y="16842"/>
                  <a:pt x="10740" y="16842"/>
                </a:cubicBezTo>
              </a:path>
              <a:path w="2680" h="994">
                <a:moveTo>
                  <a:pt x="10443" y="17190"/>
                </a:moveTo>
                <a:cubicBezTo>
                  <a:pt x="10616" y="17140"/>
                  <a:pt x="10674" y="17123"/>
                  <a:pt x="10790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5960" y="5946840"/>
            <a:ext cx="4190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1534" y="16669"/>
                </a:moveTo>
                <a:cubicBezTo>
                  <a:pt x="11497" y="16766"/>
                  <a:pt x="11363" y="17029"/>
                  <a:pt x="11534" y="17090"/>
                </a:cubicBezTo>
                <a:cubicBezTo>
                  <a:pt x="11686" y="17090"/>
                  <a:pt x="11738" y="17089"/>
                  <a:pt x="11832" y="17041"/>
                </a:cubicBezTo>
              </a:path>
              <a:path w="1167" h="869">
                <a:moveTo>
                  <a:pt x="11881" y="16644"/>
                </a:moveTo>
                <a:cubicBezTo>
                  <a:pt x="11831" y="16894"/>
                  <a:pt x="11804" y="17142"/>
                  <a:pt x="11733" y="17388"/>
                </a:cubicBezTo>
              </a:path>
              <a:path w="1167" h="869">
                <a:moveTo>
                  <a:pt x="12626" y="16520"/>
                </a:moveTo>
                <a:cubicBezTo>
                  <a:pt x="12362" y="16580"/>
                  <a:pt x="12224" y="16723"/>
                  <a:pt x="12055" y="16942"/>
                </a:cubicBezTo>
                <a:cubicBezTo>
                  <a:pt x="12292" y="17045"/>
                  <a:pt x="12406" y="16895"/>
                  <a:pt x="12601" y="16718"/>
                </a:cubicBezTo>
                <a:cubicBezTo>
                  <a:pt x="12594" y="16946"/>
                  <a:pt x="12599" y="17171"/>
                  <a:pt x="12526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170000"/>
            <a:ext cx="2608200" cy="554040"/>
          </a:xfrm>
          <a:custGeom>
            <a:avLst/>
            <a:gdLst/>
            <a:ahLst/>
            <a:rect l="l" t="t" r="r" b="b"/>
            <a:pathLst>
              <a:path w="7244" h="1539">
                <a:moveTo>
                  <a:pt x="15503" y="3671"/>
                </a:moveTo>
                <a:cubicBezTo>
                  <a:pt x="15483" y="3775"/>
                  <a:pt x="15369" y="3516"/>
                  <a:pt x="15156" y="3721"/>
                </a:cubicBezTo>
                <a:cubicBezTo>
                  <a:pt x="14926" y="3942"/>
                  <a:pt x="15064" y="4310"/>
                  <a:pt x="15304" y="4043"/>
                </a:cubicBezTo>
                <a:cubicBezTo>
                  <a:pt x="15337" y="3977"/>
                  <a:pt x="15371" y="3911"/>
                  <a:pt x="15404" y="3845"/>
                </a:cubicBezTo>
                <a:cubicBezTo>
                  <a:pt x="15420" y="3812"/>
                  <a:pt x="15437" y="3779"/>
                  <a:pt x="15453" y="3746"/>
                </a:cubicBezTo>
                <a:cubicBezTo>
                  <a:pt x="15453" y="3998"/>
                  <a:pt x="15455" y="4264"/>
                  <a:pt x="15429" y="4514"/>
                </a:cubicBezTo>
                <a:cubicBezTo>
                  <a:pt x="15421" y="4547"/>
                  <a:pt x="15412" y="4581"/>
                  <a:pt x="15404" y="4614"/>
                </a:cubicBezTo>
              </a:path>
              <a:path w="7244" h="1539">
                <a:moveTo>
                  <a:pt x="15949" y="3249"/>
                </a:moveTo>
                <a:cubicBezTo>
                  <a:pt x="15808" y="3249"/>
                  <a:pt x="15803" y="3248"/>
                  <a:pt x="15701" y="3373"/>
                </a:cubicBezTo>
                <a:cubicBezTo>
                  <a:pt x="15659" y="3437"/>
                  <a:pt x="15643" y="3448"/>
                  <a:pt x="15652" y="3497"/>
                </a:cubicBezTo>
                <a:cubicBezTo>
                  <a:pt x="15763" y="3461"/>
                  <a:pt x="15883" y="3393"/>
                  <a:pt x="15999" y="3448"/>
                </a:cubicBezTo>
                <a:cubicBezTo>
                  <a:pt x="16192" y="3539"/>
                  <a:pt x="16135" y="3726"/>
                  <a:pt x="15949" y="3770"/>
                </a:cubicBezTo>
                <a:cubicBezTo>
                  <a:pt x="15850" y="3770"/>
                  <a:pt x="15834" y="3770"/>
                  <a:pt x="15776" y="3770"/>
                </a:cubicBezTo>
              </a:path>
              <a:path w="7244" h="1539">
                <a:moveTo>
                  <a:pt x="16321" y="3969"/>
                </a:moveTo>
                <a:cubicBezTo>
                  <a:pt x="16428" y="3921"/>
                  <a:pt x="16526" y="3899"/>
                  <a:pt x="16644" y="3894"/>
                </a:cubicBezTo>
                <a:cubicBezTo>
                  <a:pt x="16661" y="3894"/>
                  <a:pt x="16677" y="3894"/>
                  <a:pt x="16694" y="3894"/>
                </a:cubicBezTo>
              </a:path>
              <a:path w="7244" h="1539">
                <a:moveTo>
                  <a:pt x="16321" y="4167"/>
                </a:moveTo>
                <a:cubicBezTo>
                  <a:pt x="16430" y="4157"/>
                  <a:pt x="16533" y="4142"/>
                  <a:pt x="16644" y="4142"/>
                </a:cubicBezTo>
              </a:path>
              <a:path w="7244" h="1539">
                <a:moveTo>
                  <a:pt x="17462" y="3770"/>
                </a:moveTo>
                <a:cubicBezTo>
                  <a:pt x="17518" y="3660"/>
                  <a:pt x="17438" y="3568"/>
                  <a:pt x="17363" y="3473"/>
                </a:cubicBezTo>
                <a:cubicBezTo>
                  <a:pt x="17313" y="3422"/>
                  <a:pt x="17295" y="3405"/>
                  <a:pt x="17239" y="3423"/>
                </a:cubicBezTo>
                <a:cubicBezTo>
                  <a:pt x="17075" y="3638"/>
                  <a:pt x="17024" y="3727"/>
                  <a:pt x="17115" y="3969"/>
                </a:cubicBezTo>
                <a:cubicBezTo>
                  <a:pt x="17351" y="3969"/>
                  <a:pt x="17403" y="3883"/>
                  <a:pt x="17462" y="3646"/>
                </a:cubicBezTo>
                <a:cubicBezTo>
                  <a:pt x="17462" y="3638"/>
                  <a:pt x="17462" y="3629"/>
                  <a:pt x="17462" y="3621"/>
                </a:cubicBezTo>
                <a:cubicBezTo>
                  <a:pt x="17505" y="3780"/>
                  <a:pt x="17519" y="4013"/>
                  <a:pt x="17537" y="4192"/>
                </a:cubicBezTo>
                <a:cubicBezTo>
                  <a:pt x="17537" y="4217"/>
                  <a:pt x="17537" y="4241"/>
                  <a:pt x="17537" y="4266"/>
                </a:cubicBezTo>
              </a:path>
              <a:path w="7244" h="1539">
                <a:moveTo>
                  <a:pt x="17735" y="3522"/>
                </a:moveTo>
                <a:cubicBezTo>
                  <a:pt x="17864" y="3711"/>
                  <a:pt x="17976" y="3876"/>
                  <a:pt x="18157" y="4018"/>
                </a:cubicBezTo>
              </a:path>
              <a:path w="7244" h="1539">
                <a:moveTo>
                  <a:pt x="18058" y="3448"/>
                </a:moveTo>
                <a:cubicBezTo>
                  <a:pt x="18058" y="3633"/>
                  <a:pt x="18023" y="3810"/>
                  <a:pt x="18008" y="3994"/>
                </a:cubicBezTo>
                <a:cubicBezTo>
                  <a:pt x="18008" y="4027"/>
                  <a:pt x="18008" y="4060"/>
                  <a:pt x="18008" y="4093"/>
                </a:cubicBezTo>
              </a:path>
              <a:path w="7244" h="1539">
                <a:moveTo>
                  <a:pt x="18901" y="3547"/>
                </a:moveTo>
                <a:cubicBezTo>
                  <a:pt x="18876" y="3421"/>
                  <a:pt x="18805" y="3309"/>
                  <a:pt x="18653" y="3398"/>
                </a:cubicBezTo>
                <a:cubicBezTo>
                  <a:pt x="18509" y="3483"/>
                  <a:pt x="18247" y="3941"/>
                  <a:pt x="18604" y="3919"/>
                </a:cubicBezTo>
                <a:cubicBezTo>
                  <a:pt x="18756" y="3843"/>
                  <a:pt x="18808" y="3814"/>
                  <a:pt x="18852" y="3696"/>
                </a:cubicBezTo>
                <a:cubicBezTo>
                  <a:pt x="18969" y="3459"/>
                  <a:pt x="18965" y="4028"/>
                  <a:pt x="18976" y="4142"/>
                </a:cubicBezTo>
              </a:path>
              <a:path w="7244" h="1539">
                <a:moveTo>
                  <a:pt x="19323" y="3497"/>
                </a:moveTo>
                <a:cubicBezTo>
                  <a:pt x="19342" y="3710"/>
                  <a:pt x="19376" y="3808"/>
                  <a:pt x="19521" y="3969"/>
                </a:cubicBezTo>
              </a:path>
              <a:path w="7244" h="1539">
                <a:moveTo>
                  <a:pt x="19472" y="3473"/>
                </a:moveTo>
                <a:cubicBezTo>
                  <a:pt x="19383" y="3632"/>
                  <a:pt x="19324" y="3786"/>
                  <a:pt x="19298" y="3969"/>
                </a:cubicBezTo>
                <a:cubicBezTo>
                  <a:pt x="19298" y="3994"/>
                  <a:pt x="19298" y="4018"/>
                  <a:pt x="19298" y="4043"/>
                </a:cubicBezTo>
              </a:path>
              <a:path w="7244" h="1539">
                <a:moveTo>
                  <a:pt x="20315" y="3497"/>
                </a:moveTo>
                <a:cubicBezTo>
                  <a:pt x="20280" y="3414"/>
                  <a:pt x="20193" y="3219"/>
                  <a:pt x="20067" y="3249"/>
                </a:cubicBezTo>
                <a:cubicBezTo>
                  <a:pt x="19852" y="3300"/>
                  <a:pt x="19678" y="3615"/>
                  <a:pt x="19943" y="3721"/>
                </a:cubicBezTo>
                <a:cubicBezTo>
                  <a:pt x="20116" y="3791"/>
                  <a:pt x="20208" y="3592"/>
                  <a:pt x="20241" y="3473"/>
                </a:cubicBezTo>
                <a:cubicBezTo>
                  <a:pt x="20264" y="3689"/>
                  <a:pt x="20290" y="3901"/>
                  <a:pt x="20290" y="4118"/>
                </a:cubicBezTo>
              </a:path>
              <a:path w="7244" h="1539">
                <a:moveTo>
                  <a:pt x="20563" y="3497"/>
                </a:moveTo>
                <a:cubicBezTo>
                  <a:pt x="20654" y="3614"/>
                  <a:pt x="20746" y="3728"/>
                  <a:pt x="20836" y="3845"/>
                </a:cubicBezTo>
              </a:path>
              <a:path w="7244" h="1539">
                <a:moveTo>
                  <a:pt x="20811" y="3448"/>
                </a:moveTo>
                <a:cubicBezTo>
                  <a:pt x="20750" y="3602"/>
                  <a:pt x="20649" y="3738"/>
                  <a:pt x="20588" y="3894"/>
                </a:cubicBezTo>
              </a:path>
              <a:path w="7244" h="1539">
                <a:moveTo>
                  <a:pt x="21580" y="3423"/>
                </a:moveTo>
                <a:cubicBezTo>
                  <a:pt x="21504" y="3296"/>
                  <a:pt x="21400" y="3147"/>
                  <a:pt x="21233" y="3299"/>
                </a:cubicBezTo>
                <a:cubicBezTo>
                  <a:pt x="21084" y="3435"/>
                  <a:pt x="21150" y="3559"/>
                  <a:pt x="21208" y="3696"/>
                </a:cubicBezTo>
                <a:cubicBezTo>
                  <a:pt x="21417" y="3684"/>
                  <a:pt x="21458" y="3581"/>
                  <a:pt x="21580" y="3398"/>
                </a:cubicBezTo>
                <a:cubicBezTo>
                  <a:pt x="21580" y="3605"/>
                  <a:pt x="21580" y="3811"/>
                  <a:pt x="21580" y="4018"/>
                </a:cubicBezTo>
              </a:path>
              <a:path w="7244" h="1539">
                <a:moveTo>
                  <a:pt x="22027" y="3522"/>
                </a:moveTo>
                <a:cubicBezTo>
                  <a:pt x="22083" y="3612"/>
                  <a:pt x="22131" y="3690"/>
                  <a:pt x="22200" y="3770"/>
                </a:cubicBezTo>
              </a:path>
              <a:path w="7244" h="1539">
                <a:moveTo>
                  <a:pt x="22250" y="3398"/>
                </a:moveTo>
                <a:cubicBezTo>
                  <a:pt x="22106" y="3522"/>
                  <a:pt x="22009" y="3661"/>
                  <a:pt x="21903" y="3820"/>
                </a:cubicBezTo>
              </a:path>
              <a:path w="7244" h="1539">
                <a:moveTo>
                  <a:pt x="15056" y="4713"/>
                </a:moveTo>
                <a:cubicBezTo>
                  <a:pt x="15230" y="4713"/>
                  <a:pt x="15386" y="4689"/>
                  <a:pt x="15553" y="4638"/>
                </a:cubicBezTo>
                <a:cubicBezTo>
                  <a:pt x="15602" y="4614"/>
                  <a:pt x="15618" y="4606"/>
                  <a:pt x="15553" y="4638"/>
                </a:cubicBezTo>
                <a:cubicBezTo>
                  <a:pt x="15385" y="4715"/>
                  <a:pt x="15189" y="4736"/>
                  <a:pt x="15007" y="4787"/>
                </a:cubicBezTo>
                <a:cubicBezTo>
                  <a:pt x="14843" y="4833"/>
                  <a:pt x="15343" y="4748"/>
                  <a:pt x="15503" y="4688"/>
                </a:cubicBezTo>
                <a:cubicBezTo>
                  <a:pt x="15411" y="4688"/>
                  <a:pt x="15354" y="4694"/>
                  <a:pt x="15280" y="4713"/>
                </a:cubicBezTo>
                <a:cubicBezTo>
                  <a:pt x="14971" y="4713"/>
                  <a:pt x="15387" y="4713"/>
                  <a:pt x="15453" y="4713"/>
                </a:cubicBezTo>
                <a:cubicBezTo>
                  <a:pt x="15503" y="4713"/>
                  <a:pt x="15520" y="4713"/>
                  <a:pt x="1555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61200" y="1116000"/>
            <a:ext cx="169920" cy="285840"/>
          </a:xfrm>
          <a:custGeom>
            <a:avLst/>
            <a:gdLst/>
            <a:ahLst/>
            <a:rect l="l" t="t" r="r" b="b"/>
            <a:pathLst>
              <a:path w="473" h="794">
                <a:moveTo>
                  <a:pt x="23118" y="3274"/>
                </a:moveTo>
                <a:cubicBezTo>
                  <a:pt x="22985" y="3113"/>
                  <a:pt x="22843" y="3018"/>
                  <a:pt x="22696" y="3274"/>
                </a:cubicBezTo>
                <a:cubicBezTo>
                  <a:pt x="22688" y="3315"/>
                  <a:pt x="22679" y="3357"/>
                  <a:pt x="22671" y="3398"/>
                </a:cubicBezTo>
                <a:cubicBezTo>
                  <a:pt x="22860" y="3520"/>
                  <a:pt x="22931" y="3448"/>
                  <a:pt x="23118" y="3324"/>
                </a:cubicBezTo>
                <a:cubicBezTo>
                  <a:pt x="23138" y="3508"/>
                  <a:pt x="23118" y="3703"/>
                  <a:pt x="23118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020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410080"/>
            <a:ext cx="2971800" cy="762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tangular Prism – A solid, formed by rectangles, that has two congruent bases lying in parallel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– The sum of the areas of the outside surfaces of a soli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2960" y="646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86" y="17959"/>
                </a:moveTo>
                <a:lnTo>
                  <a:pt x="1786" y="1795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h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op, bottom, left, right, front, and back and AD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5120" y="2027160"/>
            <a:ext cx="590760" cy="3031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10716" y="5978"/>
                </a:moveTo>
                <a:cubicBezTo>
                  <a:pt x="10681" y="5751"/>
                  <a:pt x="10593" y="5718"/>
                  <a:pt x="10393" y="5631"/>
                </a:cubicBezTo>
                <a:cubicBezTo>
                  <a:pt x="10275" y="5882"/>
                  <a:pt x="10421" y="6033"/>
                  <a:pt x="10492" y="6300"/>
                </a:cubicBezTo>
                <a:cubicBezTo>
                  <a:pt x="10492" y="6325"/>
                  <a:pt x="10492" y="6350"/>
                  <a:pt x="10492" y="6375"/>
                </a:cubicBezTo>
              </a:path>
              <a:path w="1638" h="844">
                <a:moveTo>
                  <a:pt x="10294" y="6052"/>
                </a:moveTo>
                <a:cubicBezTo>
                  <a:pt x="10532" y="6070"/>
                  <a:pt x="10679" y="6073"/>
                  <a:pt x="10765" y="6325"/>
                </a:cubicBezTo>
                <a:cubicBezTo>
                  <a:pt x="10765" y="6342"/>
                  <a:pt x="10765" y="6358"/>
                  <a:pt x="10765" y="6375"/>
                </a:cubicBezTo>
                <a:cubicBezTo>
                  <a:pt x="10817" y="6245"/>
                  <a:pt x="10837" y="6122"/>
                  <a:pt x="10964" y="6052"/>
                </a:cubicBezTo>
                <a:cubicBezTo>
                  <a:pt x="11012" y="6029"/>
                  <a:pt x="11026" y="6021"/>
                  <a:pt x="11063" y="6028"/>
                </a:cubicBezTo>
                <a:cubicBezTo>
                  <a:pt x="11051" y="6138"/>
                  <a:pt x="10924" y="6394"/>
                  <a:pt x="11038" y="6474"/>
                </a:cubicBezTo>
                <a:cubicBezTo>
                  <a:pt x="11206" y="6592"/>
                  <a:pt x="11148" y="6170"/>
                  <a:pt x="11137" y="6127"/>
                </a:cubicBezTo>
                <a:cubicBezTo>
                  <a:pt x="11129" y="6110"/>
                  <a:pt x="11120" y="6094"/>
                  <a:pt x="11112" y="6077"/>
                </a:cubicBezTo>
                <a:cubicBezTo>
                  <a:pt x="11188" y="6203"/>
                  <a:pt x="11249" y="6315"/>
                  <a:pt x="11311" y="6449"/>
                </a:cubicBezTo>
                <a:cubicBezTo>
                  <a:pt x="11333" y="6374"/>
                  <a:pt x="11344" y="6154"/>
                  <a:pt x="11410" y="6251"/>
                </a:cubicBezTo>
                <a:cubicBezTo>
                  <a:pt x="11481" y="6369"/>
                  <a:pt x="11502" y="6405"/>
                  <a:pt x="11559" y="6474"/>
                </a:cubicBezTo>
                <a:cubicBezTo>
                  <a:pt x="11714" y="6346"/>
                  <a:pt x="11727" y="6113"/>
                  <a:pt x="11782" y="5904"/>
                </a:cubicBezTo>
                <a:cubicBezTo>
                  <a:pt x="11827" y="6083"/>
                  <a:pt x="11811" y="6285"/>
                  <a:pt x="11832" y="6474"/>
                </a:cubicBezTo>
              </a:path>
              <a:path w="1638" h="844">
                <a:moveTo>
                  <a:pt x="11609" y="6077"/>
                </a:moveTo>
                <a:cubicBezTo>
                  <a:pt x="11765" y="6103"/>
                  <a:pt x="11823" y="6111"/>
                  <a:pt x="11931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13200" y="2071800"/>
            <a:ext cx="384120" cy="322200"/>
          </a:xfrm>
          <a:custGeom>
            <a:avLst/>
            <a:gdLst/>
            <a:ahLst/>
            <a:rect l="l" t="t" r="r" b="b"/>
            <a:pathLst>
              <a:path w="1067" h="894">
                <a:moveTo>
                  <a:pt x="13469" y="5755"/>
                </a:moveTo>
                <a:cubicBezTo>
                  <a:pt x="13469" y="5954"/>
                  <a:pt x="13487" y="6151"/>
                  <a:pt x="13494" y="6350"/>
                </a:cubicBezTo>
              </a:path>
              <a:path w="1067" h="894">
                <a:moveTo>
                  <a:pt x="13370" y="5978"/>
                </a:moveTo>
                <a:cubicBezTo>
                  <a:pt x="13511" y="6002"/>
                  <a:pt x="13553" y="6012"/>
                  <a:pt x="13643" y="5978"/>
                </a:cubicBezTo>
                <a:cubicBezTo>
                  <a:pt x="13663" y="6090"/>
                  <a:pt x="13571" y="6273"/>
                  <a:pt x="13742" y="6300"/>
                </a:cubicBezTo>
                <a:cubicBezTo>
                  <a:pt x="14003" y="6342"/>
                  <a:pt x="13870" y="6106"/>
                  <a:pt x="13791" y="6028"/>
                </a:cubicBezTo>
              </a:path>
              <a:path w="1067" h="894">
                <a:moveTo>
                  <a:pt x="14064" y="6251"/>
                </a:moveTo>
                <a:cubicBezTo>
                  <a:pt x="14099" y="6389"/>
                  <a:pt x="14128" y="6505"/>
                  <a:pt x="14139" y="6648"/>
                </a:cubicBezTo>
                <a:cubicBezTo>
                  <a:pt x="14131" y="6505"/>
                  <a:pt x="14010" y="6180"/>
                  <a:pt x="14163" y="6102"/>
                </a:cubicBezTo>
                <a:cubicBezTo>
                  <a:pt x="14325" y="6019"/>
                  <a:pt x="14390" y="6206"/>
                  <a:pt x="14436" y="6300"/>
                </a:cubicBezTo>
                <a:cubicBezTo>
                  <a:pt x="14351" y="6386"/>
                  <a:pt x="14312" y="6408"/>
                  <a:pt x="14213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19840" y="2089080"/>
            <a:ext cx="644400" cy="241200"/>
          </a:xfrm>
          <a:custGeom>
            <a:avLst/>
            <a:gdLst/>
            <a:ahLst/>
            <a:rect l="l" t="t" r="r" b="b"/>
            <a:pathLst>
              <a:path w="1786" h="671">
                <a:moveTo>
                  <a:pt x="16570" y="6003"/>
                </a:moveTo>
                <a:cubicBezTo>
                  <a:pt x="16511" y="6003"/>
                  <a:pt x="16485" y="6006"/>
                  <a:pt x="16446" y="6028"/>
                </a:cubicBezTo>
                <a:cubicBezTo>
                  <a:pt x="16521" y="6112"/>
                  <a:pt x="16720" y="6190"/>
                  <a:pt x="16842" y="6276"/>
                </a:cubicBezTo>
                <a:cubicBezTo>
                  <a:pt x="16695" y="6295"/>
                  <a:pt x="16664" y="6281"/>
                  <a:pt x="16545" y="6201"/>
                </a:cubicBezTo>
              </a:path>
              <a:path w="1786" h="671">
                <a:moveTo>
                  <a:pt x="17090" y="6201"/>
                </a:moveTo>
                <a:cubicBezTo>
                  <a:pt x="17090" y="6234"/>
                  <a:pt x="17090" y="6267"/>
                  <a:pt x="17090" y="6300"/>
                </a:cubicBezTo>
              </a:path>
              <a:path w="1786" h="671">
                <a:moveTo>
                  <a:pt x="17016" y="5854"/>
                </a:moveTo>
                <a:lnTo>
                  <a:pt x="17016" y="5854"/>
                </a:lnTo>
              </a:path>
              <a:path w="1786" h="671">
                <a:moveTo>
                  <a:pt x="17512" y="6251"/>
                </a:moveTo>
                <a:cubicBezTo>
                  <a:pt x="17469" y="6121"/>
                  <a:pt x="17356" y="5942"/>
                  <a:pt x="17239" y="6176"/>
                </a:cubicBezTo>
                <a:cubicBezTo>
                  <a:pt x="17215" y="6316"/>
                  <a:pt x="17202" y="6359"/>
                  <a:pt x="17289" y="6424"/>
                </a:cubicBezTo>
                <a:cubicBezTo>
                  <a:pt x="17570" y="6292"/>
                  <a:pt x="17511" y="6154"/>
                  <a:pt x="17487" y="5854"/>
                </a:cubicBezTo>
                <a:cubicBezTo>
                  <a:pt x="17487" y="5837"/>
                  <a:pt x="17487" y="5821"/>
                  <a:pt x="17487" y="5804"/>
                </a:cubicBezTo>
                <a:cubicBezTo>
                  <a:pt x="17500" y="6003"/>
                  <a:pt x="17489" y="6302"/>
                  <a:pt x="17711" y="6400"/>
                </a:cubicBezTo>
                <a:cubicBezTo>
                  <a:pt x="17923" y="6494"/>
                  <a:pt x="18145" y="6001"/>
                  <a:pt x="17983" y="6201"/>
                </a:cubicBezTo>
                <a:cubicBezTo>
                  <a:pt x="18047" y="6430"/>
                  <a:pt x="18007" y="6427"/>
                  <a:pt x="1823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4647960" cy="289548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209680"/>
            <a:ext cx="4267080" cy="1143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828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80120" y="1187280"/>
            <a:ext cx="919080" cy="26856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7562" y="3448"/>
                </a:moveTo>
                <a:cubicBezTo>
                  <a:pt x="17509" y="3645"/>
                  <a:pt x="17512" y="3838"/>
                  <a:pt x="17512" y="4043"/>
                </a:cubicBezTo>
              </a:path>
              <a:path w="2556" h="745">
                <a:moveTo>
                  <a:pt x="17165" y="3299"/>
                </a:moveTo>
                <a:cubicBezTo>
                  <a:pt x="17537" y="3329"/>
                  <a:pt x="17917" y="3346"/>
                  <a:pt x="18281" y="3423"/>
                </a:cubicBezTo>
              </a:path>
              <a:path w="2556" h="745">
                <a:moveTo>
                  <a:pt x="18703" y="3473"/>
                </a:moveTo>
                <a:cubicBezTo>
                  <a:pt x="18918" y="3510"/>
                  <a:pt x="19006" y="3569"/>
                  <a:pt x="18752" y="3671"/>
                </a:cubicBezTo>
                <a:cubicBezTo>
                  <a:pt x="18736" y="3671"/>
                  <a:pt x="18719" y="3671"/>
                  <a:pt x="18703" y="3671"/>
                </a:cubicBezTo>
                <a:cubicBezTo>
                  <a:pt x="18866" y="3671"/>
                  <a:pt x="18907" y="3687"/>
                  <a:pt x="19050" y="3746"/>
                </a:cubicBezTo>
                <a:cubicBezTo>
                  <a:pt x="18931" y="3912"/>
                  <a:pt x="18881" y="3879"/>
                  <a:pt x="18653" y="3894"/>
                </a:cubicBezTo>
              </a:path>
              <a:path w="2556" h="745">
                <a:moveTo>
                  <a:pt x="19298" y="3423"/>
                </a:moveTo>
                <a:cubicBezTo>
                  <a:pt x="19285" y="3621"/>
                  <a:pt x="19280" y="3711"/>
                  <a:pt x="19348" y="3894"/>
                </a:cubicBezTo>
                <a:cubicBezTo>
                  <a:pt x="19431" y="3908"/>
                  <a:pt x="19831" y="3853"/>
                  <a:pt x="19720" y="3646"/>
                </a:cubicBezTo>
                <a:cubicBezTo>
                  <a:pt x="19605" y="3646"/>
                  <a:pt x="19550" y="3671"/>
                  <a:pt x="19496" y="3770"/>
                </a:cubicBezTo>
              </a:path>
              <a:path w="2556" h="745">
                <a:moveTo>
                  <a:pt x="18182" y="3621"/>
                </a:moveTo>
                <a:cubicBezTo>
                  <a:pt x="18162" y="3702"/>
                  <a:pt x="18147" y="3776"/>
                  <a:pt x="18107" y="3845"/>
                </a:cubicBezTo>
                <a:cubicBezTo>
                  <a:pt x="18027" y="3696"/>
                  <a:pt x="18003" y="3745"/>
                  <a:pt x="18157" y="3721"/>
                </a:cubicBezTo>
              </a:path>
              <a:path w="2556" h="745">
                <a:moveTo>
                  <a:pt x="18306" y="3721"/>
                </a:moveTo>
                <a:cubicBezTo>
                  <a:pt x="18314" y="3746"/>
                  <a:pt x="18323" y="3770"/>
                  <a:pt x="18331" y="3795"/>
                </a:cubicBezTo>
              </a:path>
              <a:path w="2556" h="745">
                <a:moveTo>
                  <a:pt x="18331" y="3497"/>
                </a:moveTo>
                <a:cubicBezTo>
                  <a:pt x="18414" y="3491"/>
                  <a:pt x="18496" y="3480"/>
                  <a:pt x="18579" y="3473"/>
                </a:cubicBezTo>
                <a:cubicBezTo>
                  <a:pt x="18452" y="3635"/>
                  <a:pt x="18349" y="3580"/>
                  <a:pt x="18529" y="3646"/>
                </a:cubicBezTo>
                <a:cubicBezTo>
                  <a:pt x="18766" y="3733"/>
                  <a:pt x="18497" y="3805"/>
                  <a:pt x="18405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1040" y="1214280"/>
            <a:ext cx="1135080" cy="206640"/>
          </a:xfrm>
          <a:custGeom>
            <a:avLst/>
            <a:gdLst/>
            <a:ahLst/>
            <a:rect l="l" t="t" r="r" b="b"/>
            <a:pathLst>
              <a:path w="3151" h="572">
                <a:moveTo>
                  <a:pt x="20365" y="3473"/>
                </a:moveTo>
                <a:cubicBezTo>
                  <a:pt x="20459" y="3606"/>
                  <a:pt x="20552" y="3726"/>
                  <a:pt x="20662" y="3845"/>
                </a:cubicBezTo>
              </a:path>
              <a:path w="3151" h="572">
                <a:moveTo>
                  <a:pt x="20613" y="3373"/>
                </a:moveTo>
                <a:cubicBezTo>
                  <a:pt x="20542" y="3521"/>
                  <a:pt x="20476" y="3668"/>
                  <a:pt x="20414" y="3820"/>
                </a:cubicBezTo>
              </a:path>
              <a:path w="3151" h="572">
                <a:moveTo>
                  <a:pt x="20886" y="3423"/>
                </a:moveTo>
                <a:cubicBezTo>
                  <a:pt x="21071" y="3367"/>
                  <a:pt x="21067" y="3359"/>
                  <a:pt x="21233" y="3448"/>
                </a:cubicBezTo>
                <a:cubicBezTo>
                  <a:pt x="21165" y="3592"/>
                  <a:pt x="20855" y="3621"/>
                  <a:pt x="20910" y="3770"/>
                </a:cubicBezTo>
                <a:cubicBezTo>
                  <a:pt x="20931" y="3827"/>
                  <a:pt x="21191" y="3795"/>
                  <a:pt x="21233" y="3795"/>
                </a:cubicBezTo>
              </a:path>
              <a:path w="3151" h="572">
                <a:moveTo>
                  <a:pt x="21506" y="3572"/>
                </a:moveTo>
                <a:cubicBezTo>
                  <a:pt x="21596" y="3572"/>
                  <a:pt x="21666" y="3580"/>
                  <a:pt x="21754" y="3597"/>
                </a:cubicBezTo>
              </a:path>
              <a:path w="3151" h="572">
                <a:moveTo>
                  <a:pt x="21506" y="3721"/>
                </a:moveTo>
                <a:cubicBezTo>
                  <a:pt x="21639" y="3721"/>
                  <a:pt x="21674" y="3717"/>
                  <a:pt x="21754" y="3746"/>
                </a:cubicBezTo>
              </a:path>
              <a:path w="3151" h="572">
                <a:moveTo>
                  <a:pt x="22275" y="3448"/>
                </a:moveTo>
                <a:cubicBezTo>
                  <a:pt x="22399" y="3448"/>
                  <a:pt x="22523" y="3448"/>
                  <a:pt x="22647" y="3448"/>
                </a:cubicBezTo>
                <a:cubicBezTo>
                  <a:pt x="22639" y="3608"/>
                  <a:pt x="22636" y="3777"/>
                  <a:pt x="22572" y="3919"/>
                </a:cubicBezTo>
              </a:path>
              <a:path w="3151" h="572">
                <a:moveTo>
                  <a:pt x="22870" y="3497"/>
                </a:moveTo>
                <a:cubicBezTo>
                  <a:pt x="22950" y="3427"/>
                  <a:pt x="22991" y="3407"/>
                  <a:pt x="23093" y="3373"/>
                </a:cubicBezTo>
                <a:cubicBezTo>
                  <a:pt x="23212" y="3522"/>
                  <a:pt x="23074" y="3606"/>
                  <a:pt x="22969" y="3721"/>
                </a:cubicBezTo>
                <a:cubicBezTo>
                  <a:pt x="22862" y="3828"/>
                  <a:pt x="22837" y="3853"/>
                  <a:pt x="22771" y="3919"/>
                </a:cubicBezTo>
                <a:cubicBezTo>
                  <a:pt x="22806" y="3887"/>
                  <a:pt x="22961" y="3717"/>
                  <a:pt x="23019" y="3770"/>
                </a:cubicBezTo>
                <a:cubicBezTo>
                  <a:pt x="23176" y="3913"/>
                  <a:pt x="23269" y="3978"/>
                  <a:pt x="23490" y="3894"/>
                </a:cubicBezTo>
                <a:cubicBezTo>
                  <a:pt x="23498" y="3886"/>
                  <a:pt x="23507" y="3878"/>
                  <a:pt x="23515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34040" y="1562040"/>
            <a:ext cx="581040" cy="250920"/>
          </a:xfrm>
          <a:custGeom>
            <a:avLst/>
            <a:gdLst/>
            <a:ahLst/>
            <a:rect l="l" t="t" r="r" b="b"/>
            <a:pathLst>
              <a:path w="1613" h="695">
                <a:moveTo>
                  <a:pt x="17314" y="4366"/>
                </a:moveTo>
                <a:cubicBezTo>
                  <a:pt x="17203" y="4562"/>
                  <a:pt x="17178" y="4748"/>
                  <a:pt x="17115" y="4961"/>
                </a:cubicBezTo>
                <a:cubicBezTo>
                  <a:pt x="17107" y="4986"/>
                  <a:pt x="17098" y="5010"/>
                  <a:pt x="17090" y="5035"/>
                </a:cubicBezTo>
                <a:cubicBezTo>
                  <a:pt x="17077" y="4852"/>
                  <a:pt x="16985" y="4591"/>
                  <a:pt x="17066" y="4415"/>
                </a:cubicBezTo>
                <a:cubicBezTo>
                  <a:pt x="17111" y="4317"/>
                  <a:pt x="17501" y="4332"/>
                  <a:pt x="17587" y="4341"/>
                </a:cubicBezTo>
                <a:cubicBezTo>
                  <a:pt x="17612" y="4349"/>
                  <a:pt x="17636" y="4358"/>
                  <a:pt x="17661" y="4366"/>
                </a:cubicBezTo>
              </a:path>
              <a:path w="1613" h="695">
                <a:moveTo>
                  <a:pt x="17115" y="4762"/>
                </a:moveTo>
                <a:cubicBezTo>
                  <a:pt x="17181" y="4762"/>
                  <a:pt x="17248" y="4762"/>
                  <a:pt x="17314" y="4762"/>
                </a:cubicBezTo>
              </a:path>
              <a:path w="1613" h="695">
                <a:moveTo>
                  <a:pt x="17859" y="4490"/>
                </a:moveTo>
                <a:cubicBezTo>
                  <a:pt x="17890" y="4713"/>
                  <a:pt x="17994" y="4901"/>
                  <a:pt x="17785" y="4787"/>
                </a:cubicBezTo>
                <a:cubicBezTo>
                  <a:pt x="17735" y="4762"/>
                  <a:pt x="17686" y="4738"/>
                  <a:pt x="17636" y="4713"/>
                </a:cubicBezTo>
                <a:cubicBezTo>
                  <a:pt x="17393" y="4713"/>
                  <a:pt x="17983" y="4717"/>
                  <a:pt x="18008" y="4713"/>
                </a:cubicBezTo>
              </a:path>
              <a:path w="1613" h="695">
                <a:moveTo>
                  <a:pt x="18380" y="4514"/>
                </a:moveTo>
                <a:cubicBezTo>
                  <a:pt x="18380" y="4660"/>
                  <a:pt x="18385" y="4796"/>
                  <a:pt x="18355" y="4936"/>
                </a:cubicBezTo>
              </a:path>
              <a:path w="1613" h="695">
                <a:moveTo>
                  <a:pt x="18207" y="4440"/>
                </a:moveTo>
                <a:cubicBezTo>
                  <a:pt x="18269" y="4440"/>
                  <a:pt x="18667" y="4396"/>
                  <a:pt x="18579" y="4564"/>
                </a:cubicBezTo>
                <a:cubicBezTo>
                  <a:pt x="18533" y="4651"/>
                  <a:pt x="18439" y="4689"/>
                  <a:pt x="18355" y="4713"/>
                </a:cubicBezTo>
                <a:cubicBezTo>
                  <a:pt x="18487" y="4663"/>
                  <a:pt x="18664" y="4695"/>
                  <a:pt x="18653" y="4887"/>
                </a:cubicBezTo>
                <a:cubicBezTo>
                  <a:pt x="18644" y="5056"/>
                  <a:pt x="18389" y="4990"/>
                  <a:pt x="18306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2000" y="1544760"/>
            <a:ext cx="588960" cy="179280"/>
          </a:xfrm>
          <a:custGeom>
            <a:avLst/>
            <a:gdLst/>
            <a:ahLst/>
            <a:rect l="l" t="t" r="r" b="b"/>
            <a:pathLst>
              <a:path w="1638" h="497">
                <a:moveTo>
                  <a:pt x="19248" y="4316"/>
                </a:moveTo>
                <a:cubicBezTo>
                  <a:pt x="19185" y="4516"/>
                  <a:pt x="19152" y="4551"/>
                  <a:pt x="19372" y="4564"/>
                </a:cubicBezTo>
              </a:path>
              <a:path w="1638" h="497">
                <a:moveTo>
                  <a:pt x="19348" y="4366"/>
                </a:moveTo>
                <a:cubicBezTo>
                  <a:pt x="19343" y="4516"/>
                  <a:pt x="19335" y="4641"/>
                  <a:pt x="19298" y="4787"/>
                </a:cubicBezTo>
              </a:path>
              <a:path w="1638" h="497">
                <a:moveTo>
                  <a:pt x="19695" y="4316"/>
                </a:moveTo>
                <a:cubicBezTo>
                  <a:pt x="19601" y="4392"/>
                  <a:pt x="19584" y="4426"/>
                  <a:pt x="19596" y="4564"/>
                </a:cubicBezTo>
                <a:cubicBezTo>
                  <a:pt x="19606" y="4685"/>
                  <a:pt x="19646" y="4705"/>
                  <a:pt x="19596" y="4787"/>
                </a:cubicBezTo>
                <a:cubicBezTo>
                  <a:pt x="19395" y="4721"/>
                  <a:pt x="19680" y="4544"/>
                  <a:pt x="19769" y="4440"/>
                </a:cubicBezTo>
                <a:cubicBezTo>
                  <a:pt x="19830" y="4359"/>
                  <a:pt x="19865" y="4347"/>
                  <a:pt x="19819" y="4291"/>
                </a:cubicBezTo>
              </a:path>
              <a:path w="1638" h="497">
                <a:moveTo>
                  <a:pt x="20017" y="4366"/>
                </a:moveTo>
                <a:cubicBezTo>
                  <a:pt x="20104" y="4467"/>
                  <a:pt x="20147" y="4537"/>
                  <a:pt x="20191" y="4663"/>
                </a:cubicBezTo>
              </a:path>
              <a:path w="1638" h="497">
                <a:moveTo>
                  <a:pt x="20315" y="4366"/>
                </a:moveTo>
                <a:cubicBezTo>
                  <a:pt x="20193" y="4509"/>
                  <a:pt x="20144" y="4617"/>
                  <a:pt x="20067" y="4787"/>
                </a:cubicBezTo>
              </a:path>
              <a:path w="1638" h="497">
                <a:moveTo>
                  <a:pt x="20489" y="4390"/>
                </a:moveTo>
                <a:cubicBezTo>
                  <a:pt x="20608" y="4390"/>
                  <a:pt x="20706" y="4387"/>
                  <a:pt x="20811" y="4440"/>
                </a:cubicBezTo>
                <a:cubicBezTo>
                  <a:pt x="20702" y="4575"/>
                  <a:pt x="20568" y="4665"/>
                  <a:pt x="20414" y="4762"/>
                </a:cubicBezTo>
                <a:cubicBezTo>
                  <a:pt x="20566" y="4783"/>
                  <a:pt x="20684" y="4783"/>
                  <a:pt x="20836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32800" y="1643040"/>
            <a:ext cx="135000" cy="6336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21605" y="4589"/>
                </a:moveTo>
                <a:cubicBezTo>
                  <a:pt x="21681" y="4561"/>
                  <a:pt x="21764" y="4564"/>
                  <a:pt x="21853" y="4564"/>
                </a:cubicBezTo>
              </a:path>
              <a:path w="373" h="175">
                <a:moveTo>
                  <a:pt x="21481" y="4688"/>
                </a:moveTo>
                <a:cubicBezTo>
                  <a:pt x="21582" y="4712"/>
                  <a:pt x="21676" y="4731"/>
                  <a:pt x="21779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99280" y="1490760"/>
            <a:ext cx="366840" cy="2332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22870" y="4242"/>
                </a:moveTo>
                <a:cubicBezTo>
                  <a:pt x="22801" y="4103"/>
                  <a:pt x="22664" y="4103"/>
                  <a:pt x="22547" y="4217"/>
                </a:cubicBezTo>
                <a:cubicBezTo>
                  <a:pt x="22404" y="4356"/>
                  <a:pt x="22606" y="4454"/>
                  <a:pt x="22721" y="4366"/>
                </a:cubicBezTo>
                <a:cubicBezTo>
                  <a:pt x="22754" y="4333"/>
                  <a:pt x="22787" y="4299"/>
                  <a:pt x="22820" y="4266"/>
                </a:cubicBezTo>
                <a:cubicBezTo>
                  <a:pt x="22828" y="4266"/>
                  <a:pt x="22837" y="4266"/>
                  <a:pt x="22845" y="4266"/>
                </a:cubicBezTo>
                <a:cubicBezTo>
                  <a:pt x="22836" y="4446"/>
                  <a:pt x="22794" y="4612"/>
                  <a:pt x="22771" y="4787"/>
                </a:cubicBezTo>
              </a:path>
              <a:path w="1018" h="646">
                <a:moveTo>
                  <a:pt x="23217" y="4266"/>
                </a:moveTo>
                <a:cubicBezTo>
                  <a:pt x="23136" y="4379"/>
                  <a:pt x="23044" y="4540"/>
                  <a:pt x="23044" y="4688"/>
                </a:cubicBezTo>
                <a:cubicBezTo>
                  <a:pt x="23052" y="4705"/>
                  <a:pt x="23060" y="4721"/>
                  <a:pt x="23068" y="4738"/>
                </a:cubicBezTo>
                <a:cubicBezTo>
                  <a:pt x="23137" y="4741"/>
                  <a:pt x="23543" y="4754"/>
                  <a:pt x="23515" y="4589"/>
                </a:cubicBezTo>
                <a:cubicBezTo>
                  <a:pt x="23496" y="4479"/>
                  <a:pt x="23303" y="4678"/>
                  <a:pt x="23292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6120" y="1866960"/>
            <a:ext cx="554040" cy="249120"/>
          </a:xfrm>
          <a:custGeom>
            <a:avLst/>
            <a:gdLst/>
            <a:ahLst/>
            <a:rect l="l" t="t" r="r" b="b"/>
            <a:pathLst>
              <a:path w="1539" h="696">
                <a:moveTo>
                  <a:pt x="17711" y="5234"/>
                </a:moveTo>
                <a:cubicBezTo>
                  <a:pt x="17583" y="5220"/>
                  <a:pt x="17497" y="5168"/>
                  <a:pt x="17363" y="5209"/>
                </a:cubicBezTo>
                <a:cubicBezTo>
                  <a:pt x="17276" y="5253"/>
                  <a:pt x="17253" y="5260"/>
                  <a:pt x="17214" y="5308"/>
                </a:cubicBezTo>
                <a:cubicBezTo>
                  <a:pt x="17379" y="5432"/>
                  <a:pt x="17554" y="5473"/>
                  <a:pt x="17636" y="5680"/>
                </a:cubicBezTo>
                <a:cubicBezTo>
                  <a:pt x="17746" y="5958"/>
                  <a:pt x="17293" y="5814"/>
                  <a:pt x="17214" y="5755"/>
                </a:cubicBezTo>
                <a:cubicBezTo>
                  <a:pt x="17102" y="5643"/>
                  <a:pt x="17071" y="5615"/>
                  <a:pt x="17016" y="5531"/>
                </a:cubicBezTo>
              </a:path>
              <a:path w="1539" h="696">
                <a:moveTo>
                  <a:pt x="17934" y="5432"/>
                </a:moveTo>
                <a:cubicBezTo>
                  <a:pt x="17934" y="5622"/>
                  <a:pt x="17934" y="5680"/>
                  <a:pt x="17934" y="5804"/>
                </a:cubicBezTo>
              </a:path>
              <a:path w="1539" h="696">
                <a:moveTo>
                  <a:pt x="17859" y="5531"/>
                </a:moveTo>
                <a:lnTo>
                  <a:pt x="17859" y="5531"/>
                </a:lnTo>
              </a:path>
              <a:path w="1539" h="696">
                <a:moveTo>
                  <a:pt x="18504" y="5432"/>
                </a:moveTo>
                <a:cubicBezTo>
                  <a:pt x="18401" y="5445"/>
                  <a:pt x="18369" y="5444"/>
                  <a:pt x="18281" y="5507"/>
                </a:cubicBezTo>
                <a:cubicBezTo>
                  <a:pt x="18337" y="5546"/>
                  <a:pt x="18734" y="5789"/>
                  <a:pt x="18479" y="5879"/>
                </a:cubicBezTo>
                <a:cubicBezTo>
                  <a:pt x="18311" y="5879"/>
                  <a:pt x="18259" y="5881"/>
                  <a:pt x="18157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91200" y="1803240"/>
            <a:ext cx="1590840" cy="366840"/>
          </a:xfrm>
          <a:custGeom>
            <a:avLst/>
            <a:gdLst/>
            <a:ahLst/>
            <a:rect l="l" t="t" r="r" b="b"/>
            <a:pathLst>
              <a:path w="4416" h="1018">
                <a:moveTo>
                  <a:pt x="19472" y="5358"/>
                </a:moveTo>
                <a:cubicBezTo>
                  <a:pt x="19444" y="5549"/>
                  <a:pt x="19437" y="5665"/>
                  <a:pt x="19447" y="5854"/>
                </a:cubicBezTo>
              </a:path>
              <a:path w="4416" h="1018">
                <a:moveTo>
                  <a:pt x="19695" y="5283"/>
                </a:moveTo>
                <a:cubicBezTo>
                  <a:pt x="19849" y="5386"/>
                  <a:pt x="20085" y="5610"/>
                  <a:pt x="19769" y="5755"/>
                </a:cubicBezTo>
                <a:cubicBezTo>
                  <a:pt x="19635" y="5755"/>
                  <a:pt x="19596" y="5765"/>
                  <a:pt x="19546" y="5680"/>
                </a:cubicBezTo>
                <a:cubicBezTo>
                  <a:pt x="19685" y="5511"/>
                  <a:pt x="19771" y="5545"/>
                  <a:pt x="19943" y="5680"/>
                </a:cubicBezTo>
                <a:cubicBezTo>
                  <a:pt x="19968" y="5705"/>
                  <a:pt x="19992" y="5730"/>
                  <a:pt x="20017" y="5755"/>
                </a:cubicBezTo>
              </a:path>
              <a:path w="4416" h="1018">
                <a:moveTo>
                  <a:pt x="20117" y="5333"/>
                </a:moveTo>
                <a:cubicBezTo>
                  <a:pt x="20175" y="5486"/>
                  <a:pt x="20228" y="5593"/>
                  <a:pt x="20315" y="5730"/>
                </a:cubicBezTo>
              </a:path>
              <a:path w="4416" h="1018">
                <a:moveTo>
                  <a:pt x="20315" y="5333"/>
                </a:moveTo>
                <a:cubicBezTo>
                  <a:pt x="20263" y="5499"/>
                  <a:pt x="20210" y="5662"/>
                  <a:pt x="20166" y="5829"/>
                </a:cubicBezTo>
              </a:path>
              <a:path w="4416" h="1018">
                <a:moveTo>
                  <a:pt x="20588" y="5358"/>
                </a:moveTo>
                <a:cubicBezTo>
                  <a:pt x="20764" y="5305"/>
                  <a:pt x="20901" y="5373"/>
                  <a:pt x="20935" y="5581"/>
                </a:cubicBezTo>
                <a:cubicBezTo>
                  <a:pt x="20977" y="5835"/>
                  <a:pt x="20743" y="5856"/>
                  <a:pt x="20588" y="5804"/>
                </a:cubicBezTo>
                <a:cubicBezTo>
                  <a:pt x="20654" y="5621"/>
                  <a:pt x="20701" y="5634"/>
                  <a:pt x="20886" y="5705"/>
                </a:cubicBezTo>
                <a:cubicBezTo>
                  <a:pt x="20902" y="5713"/>
                  <a:pt x="20919" y="5722"/>
                  <a:pt x="20935" y="5730"/>
                </a:cubicBezTo>
              </a:path>
              <a:path w="4416" h="1018">
                <a:moveTo>
                  <a:pt x="21406" y="5482"/>
                </a:moveTo>
                <a:cubicBezTo>
                  <a:pt x="21521" y="5453"/>
                  <a:pt x="21569" y="5445"/>
                  <a:pt x="21654" y="5457"/>
                </a:cubicBezTo>
              </a:path>
              <a:path w="4416" h="1018">
                <a:moveTo>
                  <a:pt x="21307" y="5655"/>
                </a:moveTo>
                <a:cubicBezTo>
                  <a:pt x="21390" y="5655"/>
                  <a:pt x="21440" y="5655"/>
                  <a:pt x="21506" y="5655"/>
                </a:cubicBezTo>
              </a:path>
              <a:path w="4416" h="1018">
                <a:moveTo>
                  <a:pt x="22696" y="5159"/>
                </a:moveTo>
                <a:cubicBezTo>
                  <a:pt x="22848" y="5189"/>
                  <a:pt x="22942" y="5174"/>
                  <a:pt x="23093" y="5259"/>
                </a:cubicBezTo>
                <a:cubicBezTo>
                  <a:pt x="22972" y="5501"/>
                  <a:pt x="22876" y="5534"/>
                  <a:pt x="22597" y="5507"/>
                </a:cubicBezTo>
                <a:cubicBezTo>
                  <a:pt x="22669" y="5390"/>
                  <a:pt x="22839" y="5206"/>
                  <a:pt x="22969" y="5407"/>
                </a:cubicBezTo>
                <a:cubicBezTo>
                  <a:pt x="22977" y="5448"/>
                  <a:pt x="22986" y="5490"/>
                  <a:pt x="22994" y="5531"/>
                </a:cubicBezTo>
              </a:path>
              <a:path w="4416" h="1018">
                <a:moveTo>
                  <a:pt x="23316" y="5085"/>
                </a:moveTo>
                <a:cubicBezTo>
                  <a:pt x="23280" y="5168"/>
                  <a:pt x="23255" y="5218"/>
                  <a:pt x="23242" y="5308"/>
                </a:cubicBezTo>
                <a:cubicBezTo>
                  <a:pt x="23456" y="5332"/>
                  <a:pt x="23566" y="5319"/>
                  <a:pt x="23614" y="5085"/>
                </a:cubicBezTo>
                <a:cubicBezTo>
                  <a:pt x="23614" y="5028"/>
                  <a:pt x="23614" y="4986"/>
                  <a:pt x="23614" y="5035"/>
                </a:cubicBezTo>
                <a:cubicBezTo>
                  <a:pt x="23537" y="5238"/>
                  <a:pt x="23508" y="5442"/>
                  <a:pt x="23465" y="5655"/>
                </a:cubicBezTo>
              </a:path>
              <a:path w="4416" h="1018">
                <a:moveTo>
                  <a:pt x="21952" y="5879"/>
                </a:moveTo>
                <a:cubicBezTo>
                  <a:pt x="22545" y="5888"/>
                  <a:pt x="23126" y="5916"/>
                  <a:pt x="23713" y="6003"/>
                </a:cubicBezTo>
                <a:cubicBezTo>
                  <a:pt x="23754" y="6011"/>
                  <a:pt x="23796" y="6020"/>
                  <a:pt x="23837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60640" y="190188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3324" y="5383"/>
                </a:moveTo>
                <a:cubicBezTo>
                  <a:pt x="3280" y="5318"/>
                  <a:pt x="3274" y="5298"/>
                  <a:pt x="3225" y="5283"/>
                </a:cubicBezTo>
                <a:cubicBezTo>
                  <a:pt x="3225" y="5349"/>
                  <a:pt x="3277" y="5566"/>
                  <a:pt x="322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65200" y="2330280"/>
            <a:ext cx="419040" cy="19692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4415" y="6474"/>
                </a:moveTo>
                <a:cubicBezTo>
                  <a:pt x="4410" y="6590"/>
                  <a:pt x="4401" y="6684"/>
                  <a:pt x="4390" y="6796"/>
                </a:cubicBezTo>
              </a:path>
              <a:path w="1167" h="547">
                <a:moveTo>
                  <a:pt x="4068" y="6598"/>
                </a:moveTo>
                <a:cubicBezTo>
                  <a:pt x="4243" y="6558"/>
                  <a:pt x="4414" y="6497"/>
                  <a:pt x="4589" y="6474"/>
                </a:cubicBezTo>
              </a:path>
              <a:path w="1167" h="547">
                <a:moveTo>
                  <a:pt x="4787" y="6672"/>
                </a:moveTo>
                <a:cubicBezTo>
                  <a:pt x="4692" y="6673"/>
                  <a:pt x="4706" y="6693"/>
                  <a:pt x="4663" y="6796"/>
                </a:cubicBezTo>
                <a:cubicBezTo>
                  <a:pt x="4823" y="6816"/>
                  <a:pt x="4971" y="6800"/>
                  <a:pt x="4862" y="6598"/>
                </a:cubicBezTo>
                <a:cubicBezTo>
                  <a:pt x="4817" y="6553"/>
                  <a:pt x="4807" y="6536"/>
                  <a:pt x="4762" y="6548"/>
                </a:cubicBezTo>
              </a:path>
              <a:path w="1167" h="547">
                <a:moveTo>
                  <a:pt x="4961" y="6598"/>
                </a:moveTo>
                <a:cubicBezTo>
                  <a:pt x="5014" y="6749"/>
                  <a:pt x="5035" y="6859"/>
                  <a:pt x="5035" y="7020"/>
                </a:cubicBezTo>
              </a:path>
              <a:path w="1167" h="547">
                <a:moveTo>
                  <a:pt x="4862" y="6623"/>
                </a:moveTo>
                <a:cubicBezTo>
                  <a:pt x="4950" y="6599"/>
                  <a:pt x="5185" y="6572"/>
                  <a:pt x="5234" y="6697"/>
                </a:cubicBezTo>
                <a:cubicBezTo>
                  <a:pt x="5294" y="6850"/>
                  <a:pt x="5028" y="6818"/>
                  <a:pt x="4986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7080" y="2232000"/>
            <a:ext cx="482760" cy="223920"/>
          </a:xfrm>
          <a:custGeom>
            <a:avLst/>
            <a:gdLst/>
            <a:ahLst/>
            <a:rect l="l" t="t" r="r" b="b"/>
            <a:pathLst>
              <a:path w="1340" h="621">
                <a:moveTo>
                  <a:pt x="6226" y="6201"/>
                </a:moveTo>
                <a:cubicBezTo>
                  <a:pt x="6184" y="6358"/>
                  <a:pt x="6151" y="6516"/>
                  <a:pt x="6102" y="6672"/>
                </a:cubicBezTo>
              </a:path>
              <a:path w="1340" h="621">
                <a:moveTo>
                  <a:pt x="6424" y="6449"/>
                </a:moveTo>
                <a:cubicBezTo>
                  <a:pt x="6505" y="6512"/>
                  <a:pt x="6555" y="6592"/>
                  <a:pt x="6623" y="6672"/>
                </a:cubicBezTo>
              </a:path>
              <a:path w="1340" h="621">
                <a:moveTo>
                  <a:pt x="6722" y="6325"/>
                </a:moveTo>
                <a:cubicBezTo>
                  <a:pt x="6640" y="6440"/>
                  <a:pt x="6571" y="6551"/>
                  <a:pt x="6499" y="6672"/>
                </a:cubicBezTo>
              </a:path>
              <a:path w="1340" h="621">
                <a:moveTo>
                  <a:pt x="6970" y="6400"/>
                </a:moveTo>
                <a:cubicBezTo>
                  <a:pt x="6936" y="6508"/>
                  <a:pt x="6867" y="6604"/>
                  <a:pt x="6970" y="6672"/>
                </a:cubicBezTo>
                <a:cubicBezTo>
                  <a:pt x="7036" y="6592"/>
                  <a:pt x="7078" y="6519"/>
                  <a:pt x="7119" y="6424"/>
                </a:cubicBezTo>
                <a:cubicBezTo>
                  <a:pt x="7119" y="6545"/>
                  <a:pt x="7104" y="6667"/>
                  <a:pt x="7268" y="6672"/>
                </a:cubicBezTo>
                <a:cubicBezTo>
                  <a:pt x="7367" y="6675"/>
                  <a:pt x="7535" y="6536"/>
                  <a:pt x="7441" y="6424"/>
                </a:cubicBezTo>
                <a:cubicBezTo>
                  <a:pt x="7425" y="6416"/>
                  <a:pt x="7408" y="6408"/>
                  <a:pt x="7392" y="6400"/>
                </a:cubicBezTo>
              </a:path>
              <a:path w="1340" h="621">
                <a:moveTo>
                  <a:pt x="7193" y="6375"/>
                </a:moveTo>
                <a:cubicBezTo>
                  <a:pt x="7142" y="6524"/>
                  <a:pt x="7097" y="6675"/>
                  <a:pt x="704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6240" y="2276640"/>
            <a:ext cx="1635120" cy="241200"/>
          </a:xfrm>
          <a:custGeom>
            <a:avLst/>
            <a:gdLst/>
            <a:ahLst/>
            <a:rect l="l" t="t" r="r" b="b"/>
            <a:pathLst>
              <a:path w="4540" h="671">
                <a:moveTo>
                  <a:pt x="8235" y="6672"/>
                </a:moveTo>
                <a:lnTo>
                  <a:pt x="8235" y="6672"/>
                </a:lnTo>
              </a:path>
              <a:path w="4540" h="671">
                <a:moveTo>
                  <a:pt x="8235" y="6375"/>
                </a:moveTo>
                <a:cubicBezTo>
                  <a:pt x="8224" y="6533"/>
                  <a:pt x="8196" y="6688"/>
                  <a:pt x="8186" y="6846"/>
                </a:cubicBezTo>
              </a:path>
              <a:path w="4540" h="671">
                <a:moveTo>
                  <a:pt x="8483" y="6350"/>
                </a:moveTo>
                <a:cubicBezTo>
                  <a:pt x="8677" y="6373"/>
                  <a:pt x="9004" y="6436"/>
                  <a:pt x="8806" y="6722"/>
                </a:cubicBezTo>
                <a:cubicBezTo>
                  <a:pt x="8670" y="6918"/>
                  <a:pt x="8585" y="6852"/>
                  <a:pt x="8434" y="6772"/>
                </a:cubicBezTo>
                <a:cubicBezTo>
                  <a:pt x="8434" y="6731"/>
                  <a:pt x="8434" y="6689"/>
                  <a:pt x="8434" y="6648"/>
                </a:cubicBezTo>
                <a:cubicBezTo>
                  <a:pt x="8644" y="6608"/>
                  <a:pt x="8728" y="6632"/>
                  <a:pt x="8880" y="6796"/>
                </a:cubicBezTo>
              </a:path>
              <a:path w="4540" h="671">
                <a:moveTo>
                  <a:pt x="9079" y="6400"/>
                </a:moveTo>
                <a:cubicBezTo>
                  <a:pt x="9209" y="6558"/>
                  <a:pt x="9348" y="6658"/>
                  <a:pt x="9500" y="6796"/>
                </a:cubicBezTo>
              </a:path>
              <a:path w="4540" h="671">
                <a:moveTo>
                  <a:pt x="9525" y="6325"/>
                </a:moveTo>
                <a:cubicBezTo>
                  <a:pt x="9450" y="6527"/>
                  <a:pt x="9366" y="6692"/>
                  <a:pt x="9252" y="6871"/>
                </a:cubicBezTo>
              </a:path>
              <a:path w="4540" h="671">
                <a:moveTo>
                  <a:pt x="10021" y="6400"/>
                </a:moveTo>
                <a:cubicBezTo>
                  <a:pt x="10097" y="6378"/>
                  <a:pt x="10326" y="6280"/>
                  <a:pt x="10319" y="6424"/>
                </a:cubicBezTo>
                <a:cubicBezTo>
                  <a:pt x="10313" y="6544"/>
                  <a:pt x="10158" y="6570"/>
                  <a:pt x="10071" y="6623"/>
                </a:cubicBezTo>
                <a:cubicBezTo>
                  <a:pt x="10220" y="6535"/>
                  <a:pt x="10220" y="6556"/>
                  <a:pt x="10368" y="6623"/>
                </a:cubicBezTo>
                <a:cubicBezTo>
                  <a:pt x="10297" y="6839"/>
                  <a:pt x="10192" y="6890"/>
                  <a:pt x="9947" y="6821"/>
                </a:cubicBezTo>
                <a:cubicBezTo>
                  <a:pt x="9922" y="6805"/>
                  <a:pt x="9897" y="6788"/>
                  <a:pt x="9872" y="6772"/>
                </a:cubicBezTo>
              </a:path>
              <a:path w="4540" h="671">
                <a:moveTo>
                  <a:pt x="10740" y="6623"/>
                </a:moveTo>
                <a:cubicBezTo>
                  <a:pt x="10901" y="6669"/>
                  <a:pt x="11022" y="6675"/>
                  <a:pt x="11187" y="6648"/>
                </a:cubicBezTo>
              </a:path>
              <a:path w="4540" h="671">
                <a:moveTo>
                  <a:pt x="10790" y="6747"/>
                </a:moveTo>
                <a:cubicBezTo>
                  <a:pt x="10924" y="6756"/>
                  <a:pt x="11052" y="6772"/>
                  <a:pt x="11187" y="6772"/>
                </a:cubicBezTo>
              </a:path>
              <a:path w="4540" h="671">
                <a:moveTo>
                  <a:pt x="11584" y="6524"/>
                </a:moveTo>
                <a:cubicBezTo>
                  <a:pt x="11614" y="6513"/>
                  <a:pt x="11966" y="6408"/>
                  <a:pt x="11881" y="6573"/>
                </a:cubicBezTo>
                <a:cubicBezTo>
                  <a:pt x="11826" y="6680"/>
                  <a:pt x="11757" y="6648"/>
                  <a:pt x="11658" y="6648"/>
                </a:cubicBezTo>
                <a:cubicBezTo>
                  <a:pt x="11800" y="6638"/>
                  <a:pt x="11828" y="6652"/>
                  <a:pt x="11931" y="6747"/>
                </a:cubicBezTo>
                <a:cubicBezTo>
                  <a:pt x="11808" y="6977"/>
                  <a:pt x="11699" y="6914"/>
                  <a:pt x="11460" y="6846"/>
                </a:cubicBezTo>
              </a:path>
              <a:path w="4540" h="671">
                <a:moveTo>
                  <a:pt x="12229" y="6598"/>
                </a:moveTo>
                <a:cubicBezTo>
                  <a:pt x="12180" y="6696"/>
                  <a:pt x="12061" y="6851"/>
                  <a:pt x="12179" y="6945"/>
                </a:cubicBezTo>
                <a:cubicBezTo>
                  <a:pt x="12290" y="7034"/>
                  <a:pt x="12669" y="7059"/>
                  <a:pt x="12725" y="6896"/>
                </a:cubicBezTo>
                <a:cubicBezTo>
                  <a:pt x="12725" y="6776"/>
                  <a:pt x="12727" y="6738"/>
                  <a:pt x="12675" y="6672"/>
                </a:cubicBezTo>
                <a:cubicBezTo>
                  <a:pt x="12518" y="6686"/>
                  <a:pt x="12385" y="6713"/>
                  <a:pt x="12353" y="6896"/>
                </a:cubicBezTo>
                <a:cubicBezTo>
                  <a:pt x="12361" y="6912"/>
                  <a:pt x="12370" y="6929"/>
                  <a:pt x="1237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8840" y="2035080"/>
            <a:ext cx="615960" cy="509760"/>
          </a:xfrm>
          <a:custGeom>
            <a:avLst/>
            <a:gdLst/>
            <a:ahLst/>
            <a:rect l="l" t="t" r="r" b="b"/>
            <a:pathLst>
              <a:path w="1713" h="1415">
                <a:moveTo>
                  <a:pt x="14238" y="6747"/>
                </a:moveTo>
                <a:cubicBezTo>
                  <a:pt x="14326" y="6659"/>
                  <a:pt x="14584" y="6473"/>
                  <a:pt x="14213" y="6747"/>
                </a:cubicBezTo>
                <a:cubicBezTo>
                  <a:pt x="14052" y="6866"/>
                  <a:pt x="13890" y="6971"/>
                  <a:pt x="13717" y="7069"/>
                </a:cubicBezTo>
                <a:cubicBezTo>
                  <a:pt x="13898" y="6955"/>
                  <a:pt x="14053" y="6810"/>
                  <a:pt x="14238" y="6697"/>
                </a:cubicBezTo>
                <a:cubicBezTo>
                  <a:pt x="14304" y="6657"/>
                  <a:pt x="14789" y="6334"/>
                  <a:pt x="14610" y="6548"/>
                </a:cubicBezTo>
                <a:cubicBezTo>
                  <a:pt x="14514" y="6663"/>
                  <a:pt x="14303" y="6697"/>
                  <a:pt x="14238" y="6846"/>
                </a:cubicBezTo>
                <a:cubicBezTo>
                  <a:pt x="14086" y="7199"/>
                  <a:pt x="14899" y="6471"/>
                  <a:pt x="15230" y="6276"/>
                </a:cubicBezTo>
                <a:cubicBezTo>
                  <a:pt x="15751" y="5969"/>
                  <a:pt x="14922" y="6658"/>
                  <a:pt x="14833" y="6722"/>
                </a:cubicBezTo>
                <a:cubicBezTo>
                  <a:pt x="14431" y="6937"/>
                  <a:pt x="15132" y="6414"/>
                  <a:pt x="15230" y="6325"/>
                </a:cubicBezTo>
                <a:cubicBezTo>
                  <a:pt x="15479" y="6100"/>
                  <a:pt x="14252" y="7025"/>
                  <a:pt x="14536" y="6846"/>
                </a:cubicBezTo>
                <a:cubicBezTo>
                  <a:pt x="14842" y="6654"/>
                  <a:pt x="15048" y="6397"/>
                  <a:pt x="15280" y="6127"/>
                </a:cubicBezTo>
                <a:cubicBezTo>
                  <a:pt x="15031" y="6363"/>
                  <a:pt x="14780" y="6584"/>
                  <a:pt x="14511" y="6796"/>
                </a:cubicBezTo>
                <a:cubicBezTo>
                  <a:pt x="14662" y="6672"/>
                  <a:pt x="15323" y="6077"/>
                  <a:pt x="15230" y="6176"/>
                </a:cubicBezTo>
                <a:cubicBezTo>
                  <a:pt x="15151" y="6260"/>
                  <a:pt x="14484" y="7002"/>
                  <a:pt x="14734" y="6672"/>
                </a:cubicBezTo>
                <a:cubicBezTo>
                  <a:pt x="14745" y="6657"/>
                  <a:pt x="15483" y="5719"/>
                  <a:pt x="15032" y="6226"/>
                </a:cubicBezTo>
                <a:cubicBezTo>
                  <a:pt x="14863" y="6414"/>
                  <a:pt x="14475" y="6796"/>
                  <a:pt x="14660" y="6623"/>
                </a:cubicBezTo>
                <a:cubicBezTo>
                  <a:pt x="14713" y="6574"/>
                  <a:pt x="15537" y="5790"/>
                  <a:pt x="15032" y="6325"/>
                </a:cubicBezTo>
                <a:cubicBezTo>
                  <a:pt x="14813" y="6544"/>
                  <a:pt x="14761" y="6601"/>
                  <a:pt x="14610" y="6722"/>
                </a:cubicBezTo>
                <a:cubicBezTo>
                  <a:pt x="14579" y="6816"/>
                  <a:pt x="14945" y="6346"/>
                  <a:pt x="15032" y="6251"/>
                </a:cubicBezTo>
                <a:cubicBezTo>
                  <a:pt x="15138" y="6135"/>
                  <a:pt x="14757" y="6558"/>
                  <a:pt x="14684" y="6623"/>
                </a:cubicBezTo>
              </a:path>
              <a:path w="1713" h="1415">
                <a:moveTo>
                  <a:pt x="14585" y="5755"/>
                </a:moveTo>
                <a:cubicBezTo>
                  <a:pt x="14709" y="5700"/>
                  <a:pt x="14823" y="5670"/>
                  <a:pt x="14957" y="5655"/>
                </a:cubicBezTo>
                <a:cubicBezTo>
                  <a:pt x="14905" y="5839"/>
                  <a:pt x="14812" y="5905"/>
                  <a:pt x="14635" y="5978"/>
                </a:cubicBezTo>
                <a:cubicBezTo>
                  <a:pt x="14735" y="5988"/>
                  <a:pt x="14963" y="6036"/>
                  <a:pt x="14833" y="6201"/>
                </a:cubicBezTo>
                <a:cubicBezTo>
                  <a:pt x="14741" y="6318"/>
                  <a:pt x="14628" y="6322"/>
                  <a:pt x="1451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376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6945"/>
                </a:moveTo>
                <a:lnTo>
                  <a:pt x="20315" y="69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24880" y="2170080"/>
            <a:ext cx="865080" cy="42876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21456" y="6449"/>
                </a:moveTo>
                <a:cubicBezTo>
                  <a:pt x="21536" y="6673"/>
                  <a:pt x="21506" y="6961"/>
                  <a:pt x="21506" y="7218"/>
                </a:cubicBezTo>
              </a:path>
              <a:path w="2407" h="1191">
                <a:moveTo>
                  <a:pt x="22225" y="6524"/>
                </a:moveTo>
                <a:cubicBezTo>
                  <a:pt x="22184" y="6372"/>
                  <a:pt x="22069" y="6202"/>
                  <a:pt x="21903" y="6375"/>
                </a:cubicBezTo>
                <a:cubicBezTo>
                  <a:pt x="21761" y="6524"/>
                  <a:pt x="21791" y="6619"/>
                  <a:pt x="21853" y="6772"/>
                </a:cubicBezTo>
                <a:cubicBezTo>
                  <a:pt x="21996" y="6658"/>
                  <a:pt x="22046" y="6592"/>
                  <a:pt x="22126" y="6424"/>
                </a:cubicBezTo>
                <a:cubicBezTo>
                  <a:pt x="22152" y="6633"/>
                  <a:pt x="22175" y="6834"/>
                  <a:pt x="22175" y="7045"/>
                </a:cubicBezTo>
              </a:path>
              <a:path w="2407" h="1191">
                <a:moveTo>
                  <a:pt x="22299" y="6300"/>
                </a:moveTo>
                <a:cubicBezTo>
                  <a:pt x="22506" y="6219"/>
                  <a:pt x="22616" y="6269"/>
                  <a:pt x="22671" y="6524"/>
                </a:cubicBezTo>
                <a:cubicBezTo>
                  <a:pt x="22733" y="6813"/>
                  <a:pt x="22615" y="6880"/>
                  <a:pt x="22423" y="7020"/>
                </a:cubicBezTo>
                <a:cubicBezTo>
                  <a:pt x="22373" y="6897"/>
                  <a:pt x="22374" y="6653"/>
                  <a:pt x="22597" y="6747"/>
                </a:cubicBezTo>
                <a:cubicBezTo>
                  <a:pt x="22668" y="6818"/>
                  <a:pt x="22690" y="6838"/>
                  <a:pt x="22721" y="6896"/>
                </a:cubicBezTo>
              </a:path>
              <a:path w="2407" h="1191">
                <a:moveTo>
                  <a:pt x="23068" y="6598"/>
                </a:moveTo>
                <a:cubicBezTo>
                  <a:pt x="23091" y="6713"/>
                  <a:pt x="23100" y="6745"/>
                  <a:pt x="23093" y="6821"/>
                </a:cubicBezTo>
                <a:cubicBezTo>
                  <a:pt x="23102" y="6663"/>
                  <a:pt x="23119" y="6441"/>
                  <a:pt x="23267" y="6697"/>
                </a:cubicBezTo>
                <a:cubicBezTo>
                  <a:pt x="23306" y="6795"/>
                  <a:pt x="23322" y="6809"/>
                  <a:pt x="23316" y="6871"/>
                </a:cubicBezTo>
                <a:cubicBezTo>
                  <a:pt x="23314" y="6852"/>
                  <a:pt x="23254" y="6559"/>
                  <a:pt x="23366" y="6573"/>
                </a:cubicBezTo>
                <a:cubicBezTo>
                  <a:pt x="23530" y="6593"/>
                  <a:pt x="23581" y="6766"/>
                  <a:pt x="23589" y="6896"/>
                </a:cubicBezTo>
                <a:cubicBezTo>
                  <a:pt x="23589" y="6921"/>
                  <a:pt x="23589" y="6945"/>
                  <a:pt x="23589" y="6970"/>
                </a:cubicBezTo>
              </a:path>
              <a:path w="2407" h="1191">
                <a:moveTo>
                  <a:pt x="23540" y="6028"/>
                </a:moveTo>
                <a:cubicBezTo>
                  <a:pt x="23671" y="6038"/>
                  <a:pt x="23819" y="6049"/>
                  <a:pt x="23788" y="6226"/>
                </a:cubicBezTo>
                <a:cubicBezTo>
                  <a:pt x="23759" y="6393"/>
                  <a:pt x="23689" y="6385"/>
                  <a:pt x="23564" y="6375"/>
                </a:cubicBezTo>
                <a:cubicBezTo>
                  <a:pt x="23588" y="6232"/>
                  <a:pt x="23657" y="6268"/>
                  <a:pt x="23788" y="6300"/>
                </a:cubicBezTo>
                <a:cubicBezTo>
                  <a:pt x="23813" y="6308"/>
                  <a:pt x="23837" y="6317"/>
                  <a:pt x="23862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2840" y="2643120"/>
            <a:ext cx="660240" cy="214560"/>
          </a:xfrm>
          <a:custGeom>
            <a:avLst/>
            <a:gdLst/>
            <a:ahLst/>
            <a:rect l="l" t="t" r="r" b="b"/>
            <a:pathLst>
              <a:path w="1836" h="597">
                <a:moveTo>
                  <a:pt x="4118" y="7516"/>
                </a:moveTo>
                <a:cubicBezTo>
                  <a:pt x="4237" y="7369"/>
                  <a:pt x="4241" y="7677"/>
                  <a:pt x="4266" y="7764"/>
                </a:cubicBezTo>
                <a:cubicBezTo>
                  <a:pt x="4283" y="7814"/>
                  <a:pt x="4299" y="7863"/>
                  <a:pt x="4316" y="7913"/>
                </a:cubicBezTo>
                <a:cubicBezTo>
                  <a:pt x="4316" y="8040"/>
                  <a:pt x="4271" y="7714"/>
                  <a:pt x="4242" y="7590"/>
                </a:cubicBezTo>
                <a:cubicBezTo>
                  <a:pt x="4205" y="7432"/>
                  <a:pt x="4154" y="7426"/>
                  <a:pt x="4217" y="7342"/>
                </a:cubicBezTo>
                <a:cubicBezTo>
                  <a:pt x="4360" y="7366"/>
                  <a:pt x="4494" y="7385"/>
                  <a:pt x="4638" y="7392"/>
                </a:cubicBezTo>
              </a:path>
              <a:path w="1836" h="597">
                <a:moveTo>
                  <a:pt x="4167" y="7615"/>
                </a:moveTo>
                <a:cubicBezTo>
                  <a:pt x="4309" y="7579"/>
                  <a:pt x="4620" y="7425"/>
                  <a:pt x="4738" y="7565"/>
                </a:cubicBezTo>
                <a:cubicBezTo>
                  <a:pt x="4801" y="7670"/>
                  <a:pt x="4819" y="7691"/>
                  <a:pt x="4837" y="7764"/>
                </a:cubicBezTo>
                <a:cubicBezTo>
                  <a:pt x="4866" y="7609"/>
                  <a:pt x="4857" y="7437"/>
                  <a:pt x="5011" y="7342"/>
                </a:cubicBezTo>
                <a:cubicBezTo>
                  <a:pt x="5077" y="7342"/>
                  <a:pt x="5094" y="7342"/>
                  <a:pt x="5135" y="7342"/>
                </a:cubicBezTo>
                <a:cubicBezTo>
                  <a:pt x="5174" y="7435"/>
                  <a:pt x="5017" y="7618"/>
                  <a:pt x="5035" y="7789"/>
                </a:cubicBezTo>
                <a:cubicBezTo>
                  <a:pt x="5052" y="7822"/>
                  <a:pt x="5068" y="7855"/>
                  <a:pt x="5085" y="7888"/>
                </a:cubicBezTo>
                <a:cubicBezTo>
                  <a:pt x="5295" y="7747"/>
                  <a:pt x="5152" y="7677"/>
                  <a:pt x="5209" y="7491"/>
                </a:cubicBezTo>
                <a:cubicBezTo>
                  <a:pt x="5248" y="7363"/>
                  <a:pt x="5420" y="7588"/>
                  <a:pt x="5507" y="7689"/>
                </a:cubicBezTo>
                <a:cubicBezTo>
                  <a:pt x="5507" y="7730"/>
                  <a:pt x="5507" y="7772"/>
                  <a:pt x="5507" y="7813"/>
                </a:cubicBezTo>
                <a:cubicBezTo>
                  <a:pt x="5522" y="7387"/>
                  <a:pt x="5493" y="7593"/>
                  <a:pt x="5655" y="7764"/>
                </a:cubicBezTo>
                <a:cubicBezTo>
                  <a:pt x="5712" y="7764"/>
                  <a:pt x="5733" y="7759"/>
                  <a:pt x="5755" y="7714"/>
                </a:cubicBezTo>
              </a:path>
              <a:path w="1836" h="597">
                <a:moveTo>
                  <a:pt x="5854" y="7466"/>
                </a:moveTo>
                <a:cubicBezTo>
                  <a:pt x="5897" y="7699"/>
                  <a:pt x="5901" y="7752"/>
                  <a:pt x="5953" y="7888"/>
                </a:cubicBezTo>
              </a:path>
              <a:path w="1836" h="597">
                <a:moveTo>
                  <a:pt x="5655" y="7565"/>
                </a:moveTo>
                <a:cubicBezTo>
                  <a:pt x="5721" y="7565"/>
                  <a:pt x="5788" y="7565"/>
                  <a:pt x="585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3200" y="2616120"/>
            <a:ext cx="554040" cy="24156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6871" y="7317"/>
                </a:moveTo>
                <a:cubicBezTo>
                  <a:pt x="6897" y="7343"/>
                  <a:pt x="6876" y="7720"/>
                  <a:pt x="6871" y="7913"/>
                </a:cubicBezTo>
                <a:cubicBezTo>
                  <a:pt x="6871" y="7921"/>
                  <a:pt x="6871" y="7930"/>
                  <a:pt x="6871" y="7938"/>
                </a:cubicBezTo>
              </a:path>
              <a:path w="1539" h="671">
                <a:moveTo>
                  <a:pt x="7268" y="7491"/>
                </a:moveTo>
                <a:cubicBezTo>
                  <a:pt x="7310" y="7641"/>
                  <a:pt x="7411" y="7777"/>
                  <a:pt x="7491" y="7913"/>
                </a:cubicBezTo>
              </a:path>
              <a:path w="1539" h="671">
                <a:moveTo>
                  <a:pt x="7342" y="7541"/>
                </a:moveTo>
                <a:cubicBezTo>
                  <a:pt x="7276" y="7695"/>
                  <a:pt x="7255" y="7733"/>
                  <a:pt x="7243" y="7838"/>
                </a:cubicBezTo>
              </a:path>
              <a:path w="1539" h="671">
                <a:moveTo>
                  <a:pt x="7714" y="7466"/>
                </a:moveTo>
                <a:cubicBezTo>
                  <a:pt x="7717" y="7541"/>
                  <a:pt x="7688" y="8007"/>
                  <a:pt x="7888" y="7813"/>
                </a:cubicBezTo>
                <a:cubicBezTo>
                  <a:pt x="7983" y="7671"/>
                  <a:pt x="8014" y="7628"/>
                  <a:pt x="8037" y="7516"/>
                </a:cubicBezTo>
                <a:cubicBezTo>
                  <a:pt x="8061" y="7662"/>
                  <a:pt x="8169" y="7954"/>
                  <a:pt x="8359" y="7714"/>
                </a:cubicBezTo>
                <a:cubicBezTo>
                  <a:pt x="8408" y="7569"/>
                  <a:pt x="8426" y="7523"/>
                  <a:pt x="8334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3640" y="2963880"/>
            <a:ext cx="1001520" cy="260280"/>
          </a:xfrm>
          <a:custGeom>
            <a:avLst/>
            <a:gdLst/>
            <a:ahLst/>
            <a:rect l="l" t="t" r="r" b="b"/>
            <a:pathLst>
              <a:path w="2779" h="720">
                <a:moveTo>
                  <a:pt x="6449" y="8409"/>
                </a:moveTo>
                <a:cubicBezTo>
                  <a:pt x="6428" y="8551"/>
                  <a:pt x="6408" y="8688"/>
                  <a:pt x="6400" y="8830"/>
                </a:cubicBezTo>
              </a:path>
              <a:path w="2779" h="720">
                <a:moveTo>
                  <a:pt x="6697" y="8508"/>
                </a:moveTo>
                <a:cubicBezTo>
                  <a:pt x="6849" y="8462"/>
                  <a:pt x="6892" y="8426"/>
                  <a:pt x="7020" y="8483"/>
                </a:cubicBezTo>
                <a:cubicBezTo>
                  <a:pt x="6967" y="8663"/>
                  <a:pt x="6871" y="8709"/>
                  <a:pt x="6722" y="8830"/>
                </a:cubicBezTo>
                <a:cubicBezTo>
                  <a:pt x="6866" y="8818"/>
                  <a:pt x="7003" y="8789"/>
                  <a:pt x="7144" y="8756"/>
                </a:cubicBezTo>
              </a:path>
              <a:path w="2779" h="720">
                <a:moveTo>
                  <a:pt x="7367" y="8483"/>
                </a:moveTo>
                <a:cubicBezTo>
                  <a:pt x="7497" y="8583"/>
                  <a:pt x="7614" y="8699"/>
                  <a:pt x="7739" y="8806"/>
                </a:cubicBezTo>
                <a:cubicBezTo>
                  <a:pt x="7747" y="8814"/>
                  <a:pt x="7756" y="8822"/>
                  <a:pt x="7764" y="8830"/>
                </a:cubicBezTo>
              </a:path>
              <a:path w="2779" h="720">
                <a:moveTo>
                  <a:pt x="7789" y="8434"/>
                </a:moveTo>
                <a:cubicBezTo>
                  <a:pt x="7696" y="8582"/>
                  <a:pt x="7605" y="8730"/>
                  <a:pt x="7516" y="8880"/>
                </a:cubicBezTo>
              </a:path>
              <a:path w="2779" h="720">
                <a:moveTo>
                  <a:pt x="8037" y="8508"/>
                </a:moveTo>
                <a:cubicBezTo>
                  <a:pt x="8059" y="8463"/>
                  <a:pt x="8106" y="8419"/>
                  <a:pt x="8136" y="8359"/>
                </a:cubicBezTo>
                <a:cubicBezTo>
                  <a:pt x="8153" y="8468"/>
                  <a:pt x="8150" y="8536"/>
                  <a:pt x="8086" y="8632"/>
                </a:cubicBezTo>
                <a:cubicBezTo>
                  <a:pt x="8239" y="8663"/>
                  <a:pt x="8419" y="8603"/>
                  <a:pt x="8582" y="8582"/>
                </a:cubicBezTo>
                <a:cubicBezTo>
                  <a:pt x="8590" y="8582"/>
                  <a:pt x="8599" y="8582"/>
                  <a:pt x="8607" y="8582"/>
                </a:cubicBezTo>
              </a:path>
              <a:path w="2779" h="720">
                <a:moveTo>
                  <a:pt x="8607" y="8235"/>
                </a:moveTo>
                <a:cubicBezTo>
                  <a:pt x="8546" y="8467"/>
                  <a:pt x="8493" y="8701"/>
                  <a:pt x="8434" y="8930"/>
                </a:cubicBezTo>
                <a:cubicBezTo>
                  <a:pt x="8434" y="8938"/>
                  <a:pt x="8434" y="8946"/>
                  <a:pt x="8434" y="8954"/>
                </a:cubicBezTo>
              </a:path>
              <a:path w="2779" h="720">
                <a:moveTo>
                  <a:pt x="8806" y="8533"/>
                </a:moveTo>
                <a:cubicBezTo>
                  <a:pt x="8931" y="8524"/>
                  <a:pt x="9051" y="8508"/>
                  <a:pt x="9178" y="8508"/>
                </a:cubicBezTo>
              </a:path>
              <a:path w="2779" h="720">
                <a:moveTo>
                  <a:pt x="8781" y="8657"/>
                </a:moveTo>
                <a:cubicBezTo>
                  <a:pt x="8902" y="8657"/>
                  <a:pt x="9011" y="8657"/>
                  <a:pt x="9128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2938320"/>
            <a:ext cx="446040" cy="26856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0988" y="8161"/>
                </a:moveTo>
                <a:lnTo>
                  <a:pt x="10988" y="8161"/>
                </a:lnTo>
              </a:path>
              <a:path w="1241" h="745">
                <a:moveTo>
                  <a:pt x="9922" y="8434"/>
                </a:moveTo>
                <a:cubicBezTo>
                  <a:pt x="9975" y="8372"/>
                  <a:pt x="9986" y="8363"/>
                  <a:pt x="9996" y="8285"/>
                </a:cubicBezTo>
                <a:cubicBezTo>
                  <a:pt x="10042" y="8283"/>
                  <a:pt x="9816" y="8510"/>
                  <a:pt x="9748" y="8582"/>
                </a:cubicBezTo>
                <a:cubicBezTo>
                  <a:pt x="9892" y="8582"/>
                  <a:pt x="10028" y="8579"/>
                  <a:pt x="10170" y="8558"/>
                </a:cubicBezTo>
              </a:path>
              <a:path w="1241" h="745">
                <a:moveTo>
                  <a:pt x="10244" y="8334"/>
                </a:moveTo>
                <a:cubicBezTo>
                  <a:pt x="10174" y="8512"/>
                  <a:pt x="10110" y="8688"/>
                  <a:pt x="10021" y="8855"/>
                </a:cubicBezTo>
              </a:path>
              <a:path w="1241" h="745">
                <a:moveTo>
                  <a:pt x="10864" y="8235"/>
                </a:moveTo>
                <a:cubicBezTo>
                  <a:pt x="10775" y="8260"/>
                  <a:pt x="10297" y="8380"/>
                  <a:pt x="10443" y="8558"/>
                </a:cubicBezTo>
                <a:cubicBezTo>
                  <a:pt x="10574" y="8717"/>
                  <a:pt x="10655" y="8646"/>
                  <a:pt x="10716" y="8830"/>
                </a:cubicBezTo>
                <a:cubicBezTo>
                  <a:pt x="10610" y="8910"/>
                  <a:pt x="10569" y="8935"/>
                  <a:pt x="10468" y="8905"/>
                </a:cubicBezTo>
                <a:cubicBezTo>
                  <a:pt x="10453" y="8633"/>
                  <a:pt x="10725" y="8603"/>
                  <a:pt x="10790" y="8359"/>
                </a:cubicBezTo>
                <a:cubicBezTo>
                  <a:pt x="10773" y="8351"/>
                  <a:pt x="10757" y="8342"/>
                  <a:pt x="10740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9880" y="2062080"/>
            <a:ext cx="268200" cy="1243080"/>
          </a:xfrm>
          <a:custGeom>
            <a:avLst/>
            <a:gdLst/>
            <a:ahLst/>
            <a:rect l="l" t="t" r="r" b="b"/>
            <a:pathLst>
              <a:path w="745" h="3449">
                <a:moveTo>
                  <a:pt x="15329" y="5730"/>
                </a:moveTo>
                <a:lnTo>
                  <a:pt x="15329" y="5730"/>
                </a:lnTo>
              </a:path>
              <a:path w="745" h="3449">
                <a:moveTo>
                  <a:pt x="14734" y="7491"/>
                </a:moveTo>
                <a:cubicBezTo>
                  <a:pt x="14752" y="7798"/>
                  <a:pt x="14745" y="8077"/>
                  <a:pt x="14684" y="8384"/>
                </a:cubicBezTo>
                <a:cubicBezTo>
                  <a:pt x="14646" y="8575"/>
                  <a:pt x="14577" y="8998"/>
                  <a:pt x="14610" y="8806"/>
                </a:cubicBezTo>
                <a:cubicBezTo>
                  <a:pt x="14618" y="8740"/>
                  <a:pt x="14627" y="8673"/>
                  <a:pt x="14635" y="8607"/>
                </a:cubicBezTo>
                <a:cubicBezTo>
                  <a:pt x="14678" y="8436"/>
                  <a:pt x="14731" y="8259"/>
                  <a:pt x="14759" y="8086"/>
                </a:cubicBezTo>
                <a:cubicBezTo>
                  <a:pt x="14798" y="7844"/>
                  <a:pt x="14805" y="7582"/>
                  <a:pt x="14759" y="7342"/>
                </a:cubicBezTo>
                <a:cubicBezTo>
                  <a:pt x="14754" y="7318"/>
                  <a:pt x="14727" y="7147"/>
                  <a:pt x="14734" y="7268"/>
                </a:cubicBezTo>
                <a:cubicBezTo>
                  <a:pt x="14768" y="7862"/>
                  <a:pt x="14777" y="8459"/>
                  <a:pt x="14784" y="9054"/>
                </a:cubicBezTo>
                <a:cubicBezTo>
                  <a:pt x="14787" y="9304"/>
                  <a:pt x="14739" y="8807"/>
                  <a:pt x="14759" y="8558"/>
                </a:cubicBezTo>
                <a:cubicBezTo>
                  <a:pt x="14809" y="8076"/>
                  <a:pt x="14827" y="7908"/>
                  <a:pt x="14908" y="7590"/>
                </a:cubicBezTo>
                <a:cubicBezTo>
                  <a:pt x="14955" y="7365"/>
                  <a:pt x="14957" y="6845"/>
                  <a:pt x="14908" y="7317"/>
                </a:cubicBezTo>
                <a:cubicBezTo>
                  <a:pt x="14852" y="7856"/>
                  <a:pt x="14869" y="8394"/>
                  <a:pt x="14784" y="8930"/>
                </a:cubicBezTo>
                <a:cubicBezTo>
                  <a:pt x="14743" y="9184"/>
                  <a:pt x="14775" y="8667"/>
                  <a:pt x="14784" y="8409"/>
                </a:cubicBezTo>
                <a:cubicBezTo>
                  <a:pt x="14800" y="7973"/>
                  <a:pt x="14877" y="7523"/>
                  <a:pt x="14784" y="7094"/>
                </a:cubicBezTo>
                <a:cubicBezTo>
                  <a:pt x="14723" y="7563"/>
                  <a:pt x="14718" y="8035"/>
                  <a:pt x="14734" y="8508"/>
                </a:cubicBezTo>
                <a:cubicBezTo>
                  <a:pt x="14753" y="8772"/>
                  <a:pt x="14761" y="8805"/>
                  <a:pt x="14759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1800" y="3857760"/>
            <a:ext cx="830160" cy="295200"/>
          </a:xfrm>
          <a:custGeom>
            <a:avLst/>
            <a:gdLst/>
            <a:ahLst/>
            <a:rect l="l" t="t" r="r" b="b"/>
            <a:pathLst>
              <a:path w="2308" h="819">
                <a:moveTo>
                  <a:pt x="15503" y="11063"/>
                </a:moveTo>
                <a:cubicBezTo>
                  <a:pt x="15584" y="11019"/>
                  <a:pt x="15628" y="10985"/>
                  <a:pt x="15701" y="10964"/>
                </a:cubicBezTo>
                <a:cubicBezTo>
                  <a:pt x="15673" y="11002"/>
                  <a:pt x="15479" y="11216"/>
                  <a:pt x="15553" y="11212"/>
                </a:cubicBezTo>
                <a:cubicBezTo>
                  <a:pt x="15738" y="11185"/>
                  <a:pt x="15808" y="11172"/>
                  <a:pt x="15925" y="11112"/>
                </a:cubicBezTo>
              </a:path>
              <a:path w="2308" h="819">
                <a:moveTo>
                  <a:pt x="15925" y="10790"/>
                </a:moveTo>
                <a:cubicBezTo>
                  <a:pt x="15902" y="11023"/>
                  <a:pt x="15843" y="11232"/>
                  <a:pt x="15776" y="11460"/>
                </a:cubicBezTo>
              </a:path>
              <a:path w="2308" h="819">
                <a:moveTo>
                  <a:pt x="16346" y="10988"/>
                </a:moveTo>
                <a:cubicBezTo>
                  <a:pt x="16463" y="10988"/>
                  <a:pt x="16512" y="10985"/>
                  <a:pt x="16594" y="10964"/>
                </a:cubicBezTo>
              </a:path>
              <a:path w="2308" h="819">
                <a:moveTo>
                  <a:pt x="16297" y="11187"/>
                </a:moveTo>
                <a:cubicBezTo>
                  <a:pt x="16363" y="11179"/>
                  <a:pt x="16429" y="11170"/>
                  <a:pt x="16495" y="11162"/>
                </a:cubicBezTo>
              </a:path>
              <a:path w="2308" h="819">
                <a:moveTo>
                  <a:pt x="17090" y="10740"/>
                </a:moveTo>
                <a:cubicBezTo>
                  <a:pt x="17017" y="11005"/>
                  <a:pt x="16937" y="11268"/>
                  <a:pt x="16867" y="11534"/>
                </a:cubicBezTo>
              </a:path>
              <a:path w="2308" h="819">
                <a:moveTo>
                  <a:pt x="17438" y="10740"/>
                </a:moveTo>
                <a:cubicBezTo>
                  <a:pt x="17630" y="10700"/>
                  <a:pt x="17879" y="10761"/>
                  <a:pt x="17810" y="11038"/>
                </a:cubicBezTo>
                <a:cubicBezTo>
                  <a:pt x="17747" y="11289"/>
                  <a:pt x="17505" y="11285"/>
                  <a:pt x="17314" y="11311"/>
                </a:cubicBezTo>
                <a:cubicBezTo>
                  <a:pt x="17392" y="11155"/>
                  <a:pt x="17608" y="10991"/>
                  <a:pt x="17785" y="11212"/>
                </a:cubicBezTo>
                <a:cubicBezTo>
                  <a:pt x="17793" y="11245"/>
                  <a:pt x="17802" y="11278"/>
                  <a:pt x="178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5040" y="2724120"/>
            <a:ext cx="973080" cy="1428840"/>
          </a:xfrm>
          <a:custGeom>
            <a:avLst/>
            <a:gdLst/>
            <a:ahLst/>
            <a:rect l="l" t="t" r="r" b="b"/>
            <a:pathLst>
              <a:path w="2704" h="3970">
                <a:moveTo>
                  <a:pt x="15627" y="7739"/>
                </a:moveTo>
                <a:cubicBezTo>
                  <a:pt x="15749" y="7801"/>
                  <a:pt x="15958" y="7842"/>
                  <a:pt x="16098" y="7863"/>
                </a:cubicBezTo>
                <a:cubicBezTo>
                  <a:pt x="16176" y="7863"/>
                  <a:pt x="16194" y="7848"/>
                  <a:pt x="16222" y="7888"/>
                </a:cubicBezTo>
              </a:path>
              <a:path w="2704" h="3970">
                <a:moveTo>
                  <a:pt x="15801" y="7565"/>
                </a:moveTo>
                <a:cubicBezTo>
                  <a:pt x="15726" y="7587"/>
                  <a:pt x="15655" y="7605"/>
                  <a:pt x="15577" y="7615"/>
                </a:cubicBezTo>
                <a:cubicBezTo>
                  <a:pt x="15658" y="7760"/>
                  <a:pt x="15660" y="7814"/>
                  <a:pt x="15627" y="7987"/>
                </a:cubicBezTo>
                <a:cubicBezTo>
                  <a:pt x="15601" y="8125"/>
                  <a:pt x="15608" y="8126"/>
                  <a:pt x="15726" y="8186"/>
                </a:cubicBezTo>
              </a:path>
              <a:path w="2704" h="3970">
                <a:moveTo>
                  <a:pt x="14337" y="9872"/>
                </a:moveTo>
                <a:cubicBezTo>
                  <a:pt x="14337" y="10034"/>
                  <a:pt x="14338" y="10159"/>
                  <a:pt x="14288" y="10319"/>
                </a:cubicBezTo>
                <a:cubicBezTo>
                  <a:pt x="14222" y="10493"/>
                  <a:pt x="14207" y="10535"/>
                  <a:pt x="14163" y="10641"/>
                </a:cubicBezTo>
              </a:path>
              <a:path w="2704" h="3970">
                <a:moveTo>
                  <a:pt x="14883" y="10170"/>
                </a:moveTo>
                <a:cubicBezTo>
                  <a:pt x="14955" y="10278"/>
                  <a:pt x="14978" y="10420"/>
                  <a:pt x="15032" y="10542"/>
                </a:cubicBezTo>
                <a:cubicBezTo>
                  <a:pt x="15040" y="10559"/>
                  <a:pt x="15048" y="10575"/>
                  <a:pt x="15056" y="10592"/>
                </a:cubicBezTo>
              </a:path>
              <a:path w="2704" h="3970">
                <a:moveTo>
                  <a:pt x="15106" y="10170"/>
                </a:moveTo>
                <a:cubicBezTo>
                  <a:pt x="15002" y="10293"/>
                  <a:pt x="14902" y="10412"/>
                  <a:pt x="14808" y="10542"/>
                </a:cubicBezTo>
              </a:path>
              <a:path w="2704" h="3970">
                <a:moveTo>
                  <a:pt x="15429" y="10220"/>
                </a:moveTo>
                <a:cubicBezTo>
                  <a:pt x="15421" y="10263"/>
                  <a:pt x="15302" y="10621"/>
                  <a:pt x="15478" y="10542"/>
                </a:cubicBezTo>
                <a:cubicBezTo>
                  <a:pt x="15626" y="10444"/>
                  <a:pt x="15675" y="10411"/>
                  <a:pt x="15751" y="10319"/>
                </a:cubicBezTo>
                <a:cubicBezTo>
                  <a:pt x="15729" y="10427"/>
                  <a:pt x="15716" y="10453"/>
                  <a:pt x="15751" y="10517"/>
                </a:cubicBezTo>
                <a:cubicBezTo>
                  <a:pt x="15897" y="10511"/>
                  <a:pt x="16253" y="10456"/>
                  <a:pt x="16173" y="10195"/>
                </a:cubicBezTo>
                <a:cubicBezTo>
                  <a:pt x="16148" y="10170"/>
                  <a:pt x="16123" y="10145"/>
                  <a:pt x="16098" y="10120"/>
                </a:cubicBezTo>
              </a:path>
              <a:path w="2704" h="3970">
                <a:moveTo>
                  <a:pt x="16321" y="7913"/>
                </a:moveTo>
                <a:cubicBezTo>
                  <a:pt x="16292" y="7883"/>
                  <a:pt x="16278" y="7871"/>
                  <a:pt x="16247" y="7863"/>
                </a:cubicBezTo>
                <a:cubicBezTo>
                  <a:pt x="16339" y="8142"/>
                  <a:pt x="16525" y="8410"/>
                  <a:pt x="16619" y="8706"/>
                </a:cubicBezTo>
                <a:cubicBezTo>
                  <a:pt x="16707" y="8985"/>
                  <a:pt x="16786" y="9225"/>
                  <a:pt x="16594" y="9451"/>
                </a:cubicBezTo>
                <a:cubicBezTo>
                  <a:pt x="16535" y="9520"/>
                  <a:pt x="16473" y="9557"/>
                  <a:pt x="16396" y="9599"/>
                </a:cubicBezTo>
              </a:path>
              <a:path w="2704" h="3970">
                <a:moveTo>
                  <a:pt x="14039" y="10889"/>
                </a:moveTo>
                <a:cubicBezTo>
                  <a:pt x="14167" y="10889"/>
                  <a:pt x="14450" y="10834"/>
                  <a:pt x="14511" y="10988"/>
                </a:cubicBezTo>
                <a:cubicBezTo>
                  <a:pt x="14569" y="11133"/>
                  <a:pt x="14281" y="11185"/>
                  <a:pt x="14213" y="11212"/>
                </a:cubicBezTo>
                <a:cubicBezTo>
                  <a:pt x="14205" y="11220"/>
                  <a:pt x="14196" y="11229"/>
                  <a:pt x="14188" y="11237"/>
                </a:cubicBezTo>
                <a:cubicBezTo>
                  <a:pt x="14358" y="11186"/>
                  <a:pt x="14407" y="11222"/>
                  <a:pt x="14486" y="11361"/>
                </a:cubicBezTo>
                <a:cubicBezTo>
                  <a:pt x="14304" y="11486"/>
                  <a:pt x="14193" y="11439"/>
                  <a:pt x="14015" y="11311"/>
                </a:cubicBezTo>
              </a:path>
              <a:path w="2704" h="3970">
                <a:moveTo>
                  <a:pt x="14808" y="11013"/>
                </a:moveTo>
                <a:cubicBezTo>
                  <a:pt x="14932" y="11173"/>
                  <a:pt x="15051" y="11323"/>
                  <a:pt x="15131" y="11509"/>
                </a:cubicBezTo>
              </a:path>
              <a:path w="2704" h="3970">
                <a:moveTo>
                  <a:pt x="15131" y="11038"/>
                </a:moveTo>
                <a:cubicBezTo>
                  <a:pt x="14993" y="11202"/>
                  <a:pt x="14873" y="11354"/>
                  <a:pt x="14759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41   1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g. 162    5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HAVE YOUR BOX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42:17Z</dcterms:created>
  <dc:creator>ccps</dc:creator>
  <dc:description/>
  <dc:language>en-US</dc:language>
  <cp:lastModifiedBy>deanne elizabeth mcgrath</cp:lastModifiedBy>
  <dcterms:modified xsi:type="dcterms:W3CDTF">2010-05-20T18:10:48Z</dcterms:modified>
  <cp:revision>6</cp:revision>
  <dc:subject/>
  <dc:title>Unit 14</dc:title>
</cp:coreProperties>
</file>